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7.wmf" ContentType="image/x-wmf"/>
  <Override PartName="/ppt/media/image6.png" ContentType="image/png"/>
  <Override PartName="/ppt/media/image14.wmf" ContentType="image/x-wmf"/>
  <Override PartName="/ppt/media/image4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wmf" ContentType="image/x-wmf"/>
  <Override PartName="/ppt/media/image16.jpeg" ContentType="image/jpeg"/>
  <Override PartName="/ppt/media/image15.wmf" ContentType="image/x-wmf"/>
  <Override PartName="/ppt/media/image1.wmf" ContentType="image/x-wmf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</p:sldIdLst>
  <p:sldSz cx="10288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hdr"/>
          </p:nvPr>
        </p:nvSpPr>
        <p:spPr>
          <a:xfrm>
            <a:off x="-1800" y="6480"/>
            <a:ext cx="288756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46"/>
          </p:nvPr>
        </p:nvSpPr>
        <p:spPr>
          <a:xfrm>
            <a:off x="3774960" y="6480"/>
            <a:ext cx="288792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47"/>
          </p:nvPr>
        </p:nvSpPr>
        <p:spPr>
          <a:xfrm>
            <a:off x="-1800" y="9365760"/>
            <a:ext cx="28875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48"/>
          </p:nvPr>
        </p:nvSpPr>
        <p:spPr>
          <a:xfrm>
            <a:off x="3774960" y="9365760"/>
            <a:ext cx="28879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E8AC24-F980-4655-80FF-5E420C775806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 type="sldImg"/>
          </p:nvPr>
        </p:nvSpPr>
        <p:spPr>
          <a:xfrm>
            <a:off x="744120" y="853920"/>
            <a:ext cx="5172120" cy="344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70794C-F26D-4417-8779-427752B7DA13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CED1C8-10F3-4CDC-B2E1-0C2E0F0F3153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2126C3-C9F9-4D11-ABD8-EE6E84B050CE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5B4B79-3B74-428B-AA70-0CC8229EA36B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F108F0-2DCA-42B0-BAD4-D33D17DFBCC6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28BFF0-5BA8-4160-A078-381D9CFFB331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91037F-A32F-4850-889F-11A3C8889498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20FD9E-C49D-408D-9756-24E61E0CEDAF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EF4B87-7481-4D1D-B635-A616CA8F5F9F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F718F8-5E62-4C28-85AE-48F2D45C6EF3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5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97A9DF-4BDE-4722-BF9C-1127D582E121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568440" y="738360"/>
            <a:ext cx="5527440" cy="368604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5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E2D049-1BE7-4E1B-8C71-4DC12B16F462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568440" y="738360"/>
            <a:ext cx="5527440" cy="36860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5709D3-7D98-41F7-9EAD-836CF9492825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281469-1BFA-4D54-8A96-C94A8D7C172E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034F27-9C7A-47F9-B608-A612996D0908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526A5F-301F-4796-A995-2860BD44214C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5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AB4931-562D-47B4-85C4-0386B662375B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568440" y="738360"/>
            <a:ext cx="5527440" cy="36860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BBCDF1-C058-4941-88E3-FEF599C3ABA8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DCB306-1A17-4411-98C1-1068C1C20118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F64AC6-BC1E-4086-A478-9E8EF131DEC9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86BF81-F9A8-4F39-8A42-14AB62B78BC8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744480" y="85392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774960" y="9366120"/>
            <a:ext cx="2887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413D95-2F11-4881-A1C9-199821412D44}" type="slidenum">
              <a:rPr b="0" i="1" lang="fr-FR" sz="1000" spc="-1" strike="noStrike">
                <a:solidFill>
                  <a:srgbClr val="e9b4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CD41D-FC23-48B2-A254-989A55F9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44E6-206C-4062-B792-67F78A67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CDBA5-F4FD-4B5A-81ED-83383E6C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3B5CE-27CC-4C5D-83F8-1A97A25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54DD0-5DEC-4A21-9FBE-590098E0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47244-6A25-4B42-810A-84A128EF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AABCF-C713-45E9-A465-6A12C424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EA147-2D90-436A-9922-2A403297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40F59-BE4F-4F34-994E-E78CC3C0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DCDD1-9D46-4642-8D0A-82FB112D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C848C-BE8B-42D9-B15E-2F7ECBE0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72E9A-99A8-4A45-8B88-D0C47313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B3ECE-52F7-47A4-880C-BED5DCE1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4DCFF-6AEF-4508-BECF-34A9A455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4F1FD-EB10-484C-8451-3F5E8636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341DA-21EA-4C13-85A0-51E22D18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C001A-C543-4584-AD12-67A14CDE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4733F-CD7C-405D-9089-E7DD7BFA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C27E6-3A56-4B03-B754-CBB964AC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D5521-C759-4570-889F-0BA29B9B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3690F-99AF-4170-9CCF-18D0A6C9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AA7AA-0DC0-4D91-B070-059C0F19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F278C-0244-4952-ADBB-BCD91FBD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737CD-E8DA-4A87-88DC-9843F21A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89E01-BB31-4E69-8581-D3DBE3F4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3AB47-96E1-40FD-A315-E0E301B3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A1AE4-9E93-45E4-8FA2-8D21F44D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2A2EE-772D-4833-A195-074068AE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4FCB9-C6C8-4FD4-A73D-659D89B1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0F7A9-6C15-4304-9AF1-045AD7A5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0A5-EDBD-4EFE-88DA-88B9883D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4EE14-A583-400E-A0E3-4A4AC280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28348-DE7F-400D-819F-250687A2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17B6F-963A-42C6-847F-021D21E5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7D731-63B2-4DAC-A6EE-4B089C6A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9C940-E6AB-455D-B490-9D62ADA4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23F33-2DD6-461A-A0A0-E90F7C0F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5DEE5-605C-46AC-AE53-A1F8E824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0DACE-2170-4540-9892-F71845CC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E4D20-0E42-47AA-8286-BA755128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4CC35-A8A7-4437-B3B8-D71990D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AC3-F0D9-4270-BC83-435573F3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47761-9EBC-4810-8982-60E5C5E3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D108-F57F-4EA6-9DE1-A059AC98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DB286-0C4E-48DA-A399-A65685AC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6F299-1CE3-4799-AC44-6FFB2B70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51B7D-FA75-4FA1-9248-E31AAB28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905D3-B4DF-45A1-9A89-D924563A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46FF8-5672-45A1-BA96-402DFBEC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38AB2-63FC-4360-85BE-35CE2447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8E02A-1AFE-4D6D-B05B-00752071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E4450-1E49-4ABD-9BD3-65EDC6FA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DD6-4CC5-4F3C-B7E0-1D7C1F28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52DAF-4822-4F3F-924C-11F321F5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F9B2E-A234-40DE-AA5D-DC1BA58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0E187-3C44-48F7-9C04-B6A96FA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7281C-C51F-4263-BF5A-69EEB6AA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2E139-52DD-4AF7-9DC3-E071D9B7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CAD7D-3DCF-4D29-934D-7BBA67C1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AF9FC-2FB5-4B9C-9C30-FE935374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ED171-BB6D-4171-AC1F-8742BC3B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5DADB-F1DB-4C72-8448-259FCFF9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A1CAA-CAA3-4188-A101-B4CF0EE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FE4-EF04-4F02-9EC8-5C052541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B6D58-8D7D-4CE4-A11A-09D14CBD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21CB2-1C87-4AF2-8E76-0FC38FFA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C3869-7359-428E-A916-2C9B3DD2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4315C-8E25-47CC-AFD9-1E34D3A9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A288A-D3F8-4AC3-8095-54FFC13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5B864-7BA9-4808-97E4-B785FF9B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48401-A7A5-4BDD-9271-05932C2B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DA7BD-FF8C-4354-BA36-7C86C387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538B5-5924-49A7-9A5F-43441D0C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5CCE0-6229-467C-9746-6A3B92C1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C62-7386-4069-B93E-30A2714C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FCC38-C9C7-46EE-8FCB-2F8269D8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DD727-652D-4041-9B6B-56D1E1D9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43764-8A92-439F-B994-F0DFD522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31AD8-541D-4191-AA2A-FC6EE079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EFA6D-E4F0-4033-BFDA-EC8B196B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6A84E-F28C-4881-AA6E-E41A0E10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BBA98-AD31-4E63-B43D-F899722D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5AE82-056B-4BAC-84E6-E164B33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81BCF-2750-45D2-8823-DE74FA22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2E23C-9AB6-4C71-99B2-58D5F881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C03-2F3E-4B0A-8B61-F4A5387D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ACE5F-8F7F-47EA-B9FB-A6AF1604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E05-D926-44A7-9C7A-8363EF91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59D1C-2F60-4C5E-9489-12BE3D01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C3FFD-C62C-49DA-9578-66CE10A7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8C7AD-E2DC-47D8-BCB3-D31560C5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5B8A6C-8C28-42C9-AEE7-88F22F5A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570D4-1364-439F-A2A3-EAD11EDC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AA612-76CD-454C-A2CE-C884D944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9E1DD-122F-413C-8200-43F23C99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9AF-1AC3-47BD-9F4D-3366CCF6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71B96-1CD1-4B76-B4BB-36CB764B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37DC5-0DF4-4880-862B-2F1F3D00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BF1FCB-A98B-4998-9E9C-55BA62E5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B7E78-1184-4655-B08F-952884DB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BAAD9-844E-47E2-8A75-A5BCB134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594-9947-4199-A1D5-63893967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702-4C53-4447-B76B-78699DB4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313-D8F8-43F3-B4FC-3157B79F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19E-461D-4B94-A54E-5DFB72F8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9D1D-4C96-4009-B8E5-4F8AB75F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152A-664C-4858-879A-11450A53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AAE3-E7D3-4A6B-AFB0-C2973D4B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4625-FD74-40BE-8AE4-B848F7D2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88B5-D474-4DFE-A06E-042F823C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FE8-1753-4090-94BD-BC74E1AD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E3D0-12FA-4CEC-812D-0988083D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9AF7-37B4-413B-AB08-BF56A32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9D54-5BC7-486D-B58D-1E7CD0D7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7818-5376-4CB6-85FF-3C69E3D8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CFE7-062E-4326-B1E8-D9285FAF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56E8-5967-4D14-B115-A7220CAF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AA97-A201-45B7-B397-06597E78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FAA2-0576-41AD-9BD2-5096F7B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077D-6F58-46E7-AD59-343C153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58E6C-F54F-4FA1-97E7-3DD5C9D2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A7C4-933B-451C-A483-7CA2CC8B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E3BB-A01E-40FC-92DC-531B5E24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1701-4848-45FC-B3C4-5054002B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3D89-61E5-4B21-8AA2-5531742E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61E5-35E5-4EDA-8BF8-07B4803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9221-ECF7-43BB-ACAF-F649CE3F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CF8DC-7BD8-4216-91AB-8BFE293B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6A93-5E4B-4CE3-9A86-636B1B8A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9EDAD-279C-43C5-98B9-1B541846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B6E1-2E51-4F4F-8EF8-83BDBD7E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9E73-663C-4FE4-BBA9-3E05CE13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2A43-BD4A-4F7E-903D-DEF76658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F42D8-6775-4C98-8641-884CE4DA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2087B-8F26-4000-A2DE-8565D2C9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ED8EE-72CA-45BD-A1E0-347C45E7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49AF2-03A0-4431-A0FA-D6F1373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C2CA-DB28-402B-B49D-99016173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91F0-ED64-4156-9264-F2E7FB9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BB59D-D881-42CD-A5C7-4E9D5C85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6214-D130-4F95-BCBD-651E52F5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F634-4C0C-4CC6-BBA4-C40F10C4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4228-46D7-40D8-9B1F-E122080D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7DCF-C295-44DB-8092-7AAFDD7F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AD717-9C24-4567-ACC1-1A4F3568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87572-7B2D-43A5-B8A0-687F77AB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C0399-522A-47F7-B5EC-FCD157D9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9156-1E2C-4789-8023-ECF8B69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9C116-7D1E-4E44-B9AE-C03C0BE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116C-1D3A-4104-8698-B9DB5868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334EA-E588-469E-BDA4-0A8E6F40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C236C-9165-41AA-827C-6B0E100D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146D0-D07F-423F-BBE1-497CAF4D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CD4D1-BA3A-46B1-A88B-D54C9E76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61604-218F-41C9-96C6-AF6B5C05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216A9-FEB8-41CD-9463-C70DEFD5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FC58A-6F4F-46E0-9470-44E90F9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B7BCB-EBA0-4C4B-8751-94D114CF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7FEA2-FFA3-4158-9A9B-F44D6919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EE30F-5522-481C-A941-445B65EA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02AB1-B30C-473A-9C7D-9E9200A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3C81-B0BD-4B93-9E07-47DCF52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ACB4D-55F6-4C89-B426-C401F214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35853-9683-4494-97DB-8F3839D0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8BCA6-D4F3-4B48-ABF6-F2041729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DB496-1256-4C68-A5FF-10F61812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4EA34-3F33-4BF8-A385-39D434E9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62C02-DE30-4816-8AF1-986B36B9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B1D27-10C8-42E7-8576-453A4612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BF782-A7AA-4460-8DEB-7CAB32E9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86880" y="475920"/>
            <a:ext cx="8952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3C98F-17AD-41E5-98F6-F06A22B4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B65F5-4DCB-43E0-B307-B07A2048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DBA77-AF6A-4787-B365-3D7B9A0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AF560-3D20-42AD-A7D0-E57A166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23600" y="43592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BE00B-6142-42A7-A316-9FCCA0B3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92000" y="22096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236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292000" y="43592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B3ECB-6EC3-4D58-8F8F-A76A49A8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73824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752880" y="22096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72360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73824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752880" y="43592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18634-2836-4993-98A7-4BB3970C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2C557-C784-4073-B989-93EF0EBB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02689-298C-467E-8702-9BF0416E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9548F-3368-48C6-9F86-DEEBB5A4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571680" y="640080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grpSp>
        <p:nvGrpSpPr>
          <p:cNvPr id="3" name="Group 4"/>
          <p:cNvGrpSpPr/>
          <p:nvPr/>
        </p:nvGrpSpPr>
        <p:grpSpPr>
          <a:xfrm>
            <a:off x="-38880" y="0"/>
            <a:ext cx="10325880" cy="276480"/>
            <a:chOff x="-38880" y="0"/>
            <a:chExt cx="10325880" cy="276480"/>
          </a:xfrm>
        </p:grpSpPr>
        <p:sp>
          <p:nvSpPr>
            <p:cNvPr id="4" name="Text Box 5"/>
            <p:cNvSpPr/>
            <p:nvPr/>
          </p:nvSpPr>
          <p:spPr>
            <a:xfrm>
              <a:off x="-38880" y="0"/>
              <a:ext cx="23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9933"/>
                  </a:solidFill>
                  <a:latin typeface="Times New Roman"/>
                  <a:ea typeface="MS PGothic"/>
                </a:rPr>
                <a:t>COCHIN - Tumeurs Endocrines</a:t>
              </a:r>
              <a:endParaRPr b="0" lang="en-US" sz="12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5" name="Line 6"/>
            <p:cNvSpPr/>
            <p:nvPr/>
          </p:nvSpPr>
          <p:spPr>
            <a:xfrm>
              <a:off x="0" y="245880"/>
              <a:ext cx="10287000" cy="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5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6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7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992A-9FEE-49BD-86BD-7BBFC9557264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2D31-C68D-4AAE-85D1-C87374E97E99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0"/>
          <p:cNvSpPr/>
          <p:nvPr/>
        </p:nvSpPr>
        <p:spPr>
          <a:xfrm>
            <a:off x="571680" y="640080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grpSp>
        <p:nvGrpSpPr>
          <p:cNvPr id="464" name="Group 4"/>
          <p:cNvGrpSpPr/>
          <p:nvPr/>
        </p:nvGrpSpPr>
        <p:grpSpPr>
          <a:xfrm>
            <a:off x="-40680" y="0"/>
            <a:ext cx="10327680" cy="276480"/>
            <a:chOff x="-40680" y="0"/>
            <a:chExt cx="10327680" cy="276480"/>
          </a:xfrm>
        </p:grpSpPr>
        <p:sp>
          <p:nvSpPr>
            <p:cNvPr id="465" name="Text Box 5"/>
            <p:cNvSpPr/>
            <p:nvPr/>
          </p:nvSpPr>
          <p:spPr>
            <a:xfrm>
              <a:off x="-40680" y="0"/>
              <a:ext cx="23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9933"/>
                  </a:solidFill>
                  <a:latin typeface="Times New Roman"/>
                  <a:ea typeface="MS PGothic"/>
                </a:rPr>
                <a:t>COCHIN - Tumeurs Endocrines</a:t>
              </a:r>
              <a:endParaRPr b="0" lang="en-US" sz="12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466" name="Line 6"/>
            <p:cNvSpPr/>
            <p:nvPr/>
          </p:nvSpPr>
          <p:spPr>
            <a:xfrm>
              <a:off x="0" y="245880"/>
              <a:ext cx="10287000" cy="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FEF2-B3B6-4902-A428-07432D175ED2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3306-0A27-4B13-A2AD-5C877BC92B97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3BAD-D975-4180-AAAE-72265A59A302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735E-5089-4B86-8DD8-7C5B7270DC9C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3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44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45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9762-6F45-4CAA-B1C3-B435AE0285F3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"/>
          <p:cNvSpPr/>
          <p:nvPr/>
        </p:nvSpPr>
        <p:spPr>
          <a:xfrm>
            <a:off x="571680" y="640080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40680" y="0"/>
            <a:ext cx="10327680" cy="276480"/>
            <a:chOff x="-40680" y="0"/>
            <a:chExt cx="10327680" cy="276480"/>
          </a:xfrm>
        </p:grpSpPr>
        <p:sp>
          <p:nvSpPr>
            <p:cNvPr id="44" name="Text Box 5"/>
            <p:cNvSpPr/>
            <p:nvPr/>
          </p:nvSpPr>
          <p:spPr>
            <a:xfrm>
              <a:off x="-40680" y="0"/>
              <a:ext cx="23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9933"/>
                  </a:solidFill>
                  <a:latin typeface="Times New Roman"/>
                  <a:ea typeface="MS PGothic"/>
                </a:rPr>
                <a:t>COCHIN - Tumeurs Endocrines</a:t>
              </a:r>
              <a:endParaRPr b="0" lang="en-US" sz="12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245880"/>
              <a:ext cx="10287000" cy="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45AF-7F98-4DA2-B6A5-B5E9630C7372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37BB-7136-4463-8FA3-1C2C2B8DD846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DF83-7693-4661-B77E-2088FBC73BD7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96B8-2DC5-43FD-8101-5BFBA1BCB068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"/>
          <p:cNvGrpSpPr/>
          <p:nvPr/>
        </p:nvGrpSpPr>
        <p:grpSpPr>
          <a:xfrm>
            <a:off x="-26280" y="0"/>
            <a:ext cx="10313280" cy="276480"/>
            <a:chOff x="-26280" y="0"/>
            <a:chExt cx="10313280" cy="276480"/>
          </a:xfrm>
        </p:grpSpPr>
        <p:sp>
          <p:nvSpPr>
            <p:cNvPr id="211" name="Text Box 5"/>
            <p:cNvSpPr/>
            <p:nvPr/>
          </p:nvSpPr>
          <p:spPr>
            <a:xfrm>
              <a:off x="-26280" y="0"/>
              <a:ext cx="25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9933"/>
                  </a:solidFill>
                  <a:latin typeface="Times New Roman"/>
                  <a:ea typeface="MS PGothic"/>
                </a:rPr>
                <a:t>COCHIN 2010 Tumeurs Endocrines</a:t>
              </a:r>
              <a:endParaRPr b="0" lang="en-US" sz="12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212" name="Line 6"/>
            <p:cNvSpPr/>
            <p:nvPr/>
          </p:nvSpPr>
          <p:spPr>
            <a:xfrm>
              <a:off x="0" y="246600"/>
              <a:ext cx="10287000" cy="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7A65-BD85-436E-841D-C73C689565ED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571680" y="640080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-40680" y="0"/>
            <a:ext cx="10327680" cy="276480"/>
            <a:chOff x="-40680" y="0"/>
            <a:chExt cx="10327680" cy="276480"/>
          </a:xfrm>
        </p:grpSpPr>
        <p:sp>
          <p:nvSpPr>
            <p:cNvPr id="256" name="Text Box 5"/>
            <p:cNvSpPr/>
            <p:nvPr/>
          </p:nvSpPr>
          <p:spPr>
            <a:xfrm>
              <a:off x="-40680" y="0"/>
              <a:ext cx="23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9933"/>
                  </a:solidFill>
                  <a:latin typeface="Times New Roman"/>
                  <a:ea typeface="MS PGothic"/>
                </a:rPr>
                <a:t>COCHIN - Tumeurs Endocrines</a:t>
              </a:r>
              <a:endParaRPr b="0" lang="en-US" sz="12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257" name="Line 6"/>
            <p:cNvSpPr/>
            <p:nvPr/>
          </p:nvSpPr>
          <p:spPr>
            <a:xfrm>
              <a:off x="0" y="245880"/>
              <a:ext cx="10287000" cy="0"/>
            </a:xfrm>
            <a:prstGeom prst="line">
              <a:avLst/>
            </a:prstGeom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B059-26B7-4F3F-9708-E28702BC8674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131E-66B5-411C-9E18-A2D3C0973775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e9b4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23600" y="2209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3" marL="1811160" indent="-91800">
              <a:spcBef>
                <a:spcPts val="700"/>
              </a:spcBef>
              <a:buClr>
                <a:srgbClr val="fef3c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4" marL="2184480" indent="-93600">
              <a:spcBef>
                <a:spcPts val="700"/>
              </a:spcBef>
              <a:buClr>
                <a:srgbClr val="fef3c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5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6" marL="2184480" indent="-93600">
              <a:spcBef>
                <a:spcPts val="700"/>
              </a:spcBef>
              <a:buClr>
                <a:srgbClr val="e9b4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98FA-EB36-402E-BA98-C35A64B62329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55360" y="15523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e9b400"/>
                </a:solidFill>
                <a:latin typeface="Arial"/>
              </a:rPr>
              <a:t>CANCER DIFFERENCIE DE LA THYROÏDE : LE SUIVI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  <p:pic>
        <p:nvPicPr>
          <p:cNvPr id="756" name="Picture 3" descr=""/>
          <p:cNvPicPr/>
          <p:nvPr/>
        </p:nvPicPr>
        <p:blipFill>
          <a:blip r:embed="rId1"/>
          <a:stretch/>
        </p:blipFill>
        <p:spPr>
          <a:xfrm>
            <a:off x="268200" y="3641760"/>
            <a:ext cx="2400480" cy="250488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4"/>
          <p:cNvSpPr/>
          <p:nvPr/>
        </p:nvSpPr>
        <p:spPr>
          <a:xfrm>
            <a:off x="2571840" y="4800600"/>
            <a:ext cx="771516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eorgia"/>
                <a:ea typeface="Arial"/>
              </a:rPr>
              <a:t>DR G. EL MGHARI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Perpetua"/>
                <a:ea typeface="Arial"/>
              </a:rPr>
              <a:t>Professeur agrégé, Service d’Endocrinologie, Ddiabétologie, Maladies métaboliques et Nutrition, CHU Mohamed VI Marrakech</a:t>
            </a:r>
            <a:endParaRPr b="0" lang="en-US" sz="14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Perpetua"/>
                <a:ea typeface="Arial"/>
              </a:rPr>
              <a:t>PCIM,FMPM,Université Cadi Ayyad</a:t>
            </a:r>
            <a:endParaRPr b="0" lang="en-US" sz="14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6880" y="288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51444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c000"/>
                </a:solidFill>
                <a:latin typeface="Arial"/>
              </a:rPr>
              <a:t>EXPLORATION CLINIQUE</a:t>
            </a:r>
            <a:endParaRPr b="1" lang="en-US" sz="32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579240" y="1236600"/>
            <a:ext cx="9202680" cy="52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 algn="just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alpation des loges thyroïdiennes et des aires ganglionnaires: faible sensibilité, les métastases gg souvent inaccessibles.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métastases osseuses :parfois visibles à l’inspection sous forme de tuméfactions molles et chaudes (ceinture scapulaire et apophyses épineuses du rachis).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valuation de la tolérance du traitement hormonal freinateur, surtout au plan cardiaqu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13000" y="144360"/>
            <a:ext cx="895320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e9b400"/>
                </a:solidFill>
                <a:latin typeface="Arial"/>
              </a:rPr>
              <a:t>ECHOGRAPHIE CERVICALE</a:t>
            </a:r>
            <a:br>
              <a:rPr sz="3200"/>
            </a:br>
            <a:endParaRPr b="1" lang="en-US" sz="3200" spc="-1" strike="noStrike">
              <a:solidFill>
                <a:srgbClr val="e9b400"/>
              </a:solidFill>
              <a:latin typeface="Arial"/>
            </a:endParaRPr>
          </a:p>
        </p:txBody>
      </p:sp>
      <p:pic>
        <p:nvPicPr>
          <p:cNvPr id="848" name="Picture 4" descr="0010002"/>
          <p:cNvPicPr/>
          <p:nvPr/>
        </p:nvPicPr>
        <p:blipFill>
          <a:blip r:embed="rId1"/>
          <a:srcRect l="13828" t="2835" r="5320" b="4964"/>
          <a:stretch/>
        </p:blipFill>
        <p:spPr>
          <a:xfrm>
            <a:off x="4873680" y="1787400"/>
            <a:ext cx="5413320" cy="411480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3"/>
          <p:cNvSpPr/>
          <p:nvPr/>
        </p:nvSpPr>
        <p:spPr>
          <a:xfrm>
            <a:off x="0" y="1341360"/>
            <a:ext cx="481968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  <a:p>
            <a:pPr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3c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3cf"/>
                </a:solidFill>
                <a:latin typeface="Arial"/>
              </a:rPr>
              <a:t>Microcalcifications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3c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3cf"/>
                </a:solidFill>
                <a:latin typeface="Arial"/>
              </a:rPr>
              <a:t>Zone kystique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vascularisation périphérique et/ou mixte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+/- Petit axe </a:t>
            </a:r>
            <a:r>
              <a:rPr b="0" lang="fr-FR" sz="2000" spc="-1" strike="noStrike">
                <a:solidFill>
                  <a:srgbClr val="fef3c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 8 mm et L/S &gt; 2 et absence de hile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ef3cf"/>
                </a:solidFill>
                <a:latin typeface="Arial"/>
              </a:rPr>
              <a:t>Loge de thyroïdectomie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Masse hypoéchogène et vascularisation mixte ou interne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- Et/ou kystisation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- Et/ou microcalcifications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294840" y="126828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3cf"/>
                </a:solidFill>
                <a:latin typeface="Arial"/>
              </a:rPr>
              <a:t>Ganglions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51" name="Text Box 6"/>
          <p:cNvSpPr/>
          <p:nvPr/>
        </p:nvSpPr>
        <p:spPr>
          <a:xfrm>
            <a:off x="-203040" y="6081840"/>
            <a:ext cx="8788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En cas d’adénopathie suspecte:  cytoponction et dosage de Tg liquide de rinçage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52" name="Text Box 7"/>
          <p:cNvSpPr/>
          <p:nvPr/>
        </p:nvSpPr>
        <p:spPr>
          <a:xfrm>
            <a:off x="6114960" y="6491160"/>
            <a:ext cx="44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Palatino"/>
              </a:rPr>
              <a:t>D’après L Leenhardt 2008 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-101520" y="2235240"/>
            <a:ext cx="10388520" cy="4622760"/>
          </a:xfrm>
          <a:prstGeom prst="rect">
            <a:avLst/>
          </a:prstGeom>
          <a:ln w="0">
            <a:noFill/>
          </a:ln>
        </p:spPr>
      </p:pic>
      <p:sp>
        <p:nvSpPr>
          <p:cNvPr id="854" name="Ellipse 7"/>
          <p:cNvSpPr/>
          <p:nvPr/>
        </p:nvSpPr>
        <p:spPr>
          <a:xfrm>
            <a:off x="8586720" y="4402080"/>
            <a:ext cx="897120" cy="417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55" name="Ellipse 8"/>
          <p:cNvSpPr/>
          <p:nvPr/>
        </p:nvSpPr>
        <p:spPr>
          <a:xfrm>
            <a:off x="9390240" y="5551560"/>
            <a:ext cx="896760" cy="40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56" name="Ellipse 9"/>
          <p:cNvSpPr/>
          <p:nvPr/>
        </p:nvSpPr>
        <p:spPr>
          <a:xfrm>
            <a:off x="8656560" y="5983200"/>
            <a:ext cx="163044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57" name="Ellipse 10"/>
          <p:cNvSpPr/>
          <p:nvPr/>
        </p:nvSpPr>
        <p:spPr>
          <a:xfrm>
            <a:off x="8582040" y="2430360"/>
            <a:ext cx="1704960" cy="652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2"/>
          <a:stretch/>
        </p:blipFill>
        <p:spPr>
          <a:xfrm>
            <a:off x="722160" y="217440"/>
            <a:ext cx="885996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0600" y="1149120"/>
            <a:ext cx="911232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56400" indent="-356400" algn="just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es critères de malignité des adénopathies sont: </a:t>
            </a: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lvl="2" marL="713160" indent="-329040" algn="just">
              <a:spcBef>
                <a:spcPts val="649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600" spc="-1" strike="noStrike">
                <a:solidFill>
                  <a:srgbClr val="fef3cf"/>
                </a:solidFill>
                <a:latin typeface="Arial"/>
              </a:rPr>
              <a:t>Grande taille (&gt; 1 cm)</a:t>
            </a: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lvl="2" marL="713160" indent="-329040" algn="just">
              <a:spcBef>
                <a:spcPts val="649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600" spc="-1" strike="noStrike">
                <a:solidFill>
                  <a:srgbClr val="fef3cf"/>
                </a:solidFill>
                <a:latin typeface="Arial"/>
              </a:rPr>
              <a:t>Ovalaires (avec un indice de Solbiati : longueur/largeur &lt; 1,5)</a:t>
            </a: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lvl="2" marL="713160" indent="-329040" algn="just">
              <a:spcBef>
                <a:spcPts val="649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600" spc="-1" strike="noStrike">
                <a:solidFill>
                  <a:srgbClr val="fef3cf"/>
                </a:solidFill>
                <a:latin typeface="Arial"/>
              </a:rPr>
              <a:t>Hypoéchogènes avec perte du hile central échogène</a:t>
            </a: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lvl="2" marL="713160" indent="-329040" algn="just">
              <a:spcBef>
                <a:spcPts val="649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600" spc="-1" strike="noStrike">
                <a:solidFill>
                  <a:srgbClr val="fef3cf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fef3cf"/>
                </a:solidFill>
                <a:latin typeface="Arial"/>
              </a:rPr>
              <a:t>Hypervasculaires</a:t>
            </a: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lvl="2" marL="713160" indent="-329040" algn="just">
              <a:spcBef>
                <a:spcPts val="649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600" spc="-1" strike="noStrike">
                <a:solidFill>
                  <a:srgbClr val="fef3cf"/>
                </a:solidFill>
                <a:latin typeface="Arial"/>
              </a:rPr>
              <a:t>Siège de microcalcification</a:t>
            </a: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lvl="1" marL="1004040" indent="-178200" algn="just">
              <a:spcBef>
                <a:spcPts val="64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marL="356400" indent="-356400" algn="just">
              <a:spcBef>
                <a:spcPts val="64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600" spc="-1" strike="noStrike">
                <a:solidFill>
                  <a:srgbClr val="fef3cf"/>
                </a:solidFill>
                <a:latin typeface="Arial"/>
              </a:rPr>
              <a:t>le type de vascularisation présente le meilleur couple sensibilité-spécificité</a:t>
            </a: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marL="356400" indent="-356400" algn="just">
              <a:spcBef>
                <a:spcPts val="64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60" name="ZoneTexte 3"/>
          <p:cNvSpPr/>
          <p:nvPr/>
        </p:nvSpPr>
        <p:spPr>
          <a:xfrm>
            <a:off x="919080" y="6013440"/>
            <a:ext cx="936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606"/>
                </a:solidFill>
                <a:latin typeface="Calibri"/>
              </a:rPr>
              <a:t>Aspects diagnostiques et thérapeutiques actuels des cancers thyroïdiens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606"/>
                </a:solidFill>
                <a:latin typeface="Calibri"/>
              </a:rPr>
              <a:t>Presse Med. 2009; 38: 210–219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522360" y="1347840"/>
            <a:ext cx="9509040" cy="47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i suspicion échographique de récidive tumorale dans le lit thyroïdien ou d’adénopathies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us repérage échographique, avec utilisation des aiguilles fines et coloration de May Grünrwald Giemsa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eut être complétée d’un dosage de thyroglobulines dans le liquide de rinçag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sensibilité de cet examen dans la détection des métastases varie de 76 à 89% selon les séries et la spécificité de 98 à 100%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62" name="Rectangle 6"/>
          <p:cNvSpPr/>
          <p:nvPr/>
        </p:nvSpPr>
        <p:spPr>
          <a:xfrm>
            <a:off x="5143680" y="6211800"/>
            <a:ext cx="51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606"/>
                </a:solidFill>
                <a:latin typeface="Arial"/>
              </a:rPr>
              <a:t>(Pacini et al, 1992 ; Lee et al, 1993 ; Frasoldati et al, 1999 ; Bernier et al, 2005 ; Boi et al, 2006)</a:t>
            </a:r>
            <a:endParaRPr b="0" lang="en-US" sz="1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3091320" y="696960"/>
            <a:ext cx="44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000"/>
                </a:solidFill>
                <a:latin typeface="Arial"/>
              </a:rPr>
              <a:t>CYTOPONCTION</a:t>
            </a:r>
            <a:endParaRPr b="0" lang="en-US" sz="32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780920" y="591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e9b400"/>
                </a:solidFill>
                <a:latin typeface="Arial"/>
              </a:rPr>
              <a:t>DOSAGE DE THYROGLOBULINE </a:t>
            </a:r>
            <a:br>
              <a:rPr sz="3200"/>
            </a:br>
            <a:endParaRPr b="1" lang="en-US" sz="32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23600" y="2209680"/>
            <a:ext cx="438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fef3cf"/>
                </a:solidFill>
                <a:latin typeface="Arial"/>
              </a:rPr>
              <a:t>Marqueur sensible et spécifique dont le taux sérique reflète: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601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La masse de tissu thyroïdien différencié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601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Le degré de stimulation par la TSH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0">
              <a:spcBef>
                <a:spcPts val="700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  <p:graphicFrame>
        <p:nvGraphicFramePr>
          <p:cNvPr id="866" name="Object 4"/>
          <p:cNvGraphicFramePr/>
          <p:nvPr/>
        </p:nvGraphicFramePr>
        <p:xfrm>
          <a:off x="5259240" y="3327480"/>
          <a:ext cx="437832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9240" y="3327480"/>
                    <a:ext cx="437832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Text Box 5"/>
          <p:cNvSpPr/>
          <p:nvPr/>
        </p:nvSpPr>
        <p:spPr>
          <a:xfrm>
            <a:off x="5224320" y="616572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9b400"/>
                </a:solidFill>
                <a:latin typeface="Arial"/>
              </a:rPr>
              <a:t>Schlumberger et al, 1995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698040" y="1674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 algn="just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méthodes immunoradiomètriques sont conseillées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 taux &gt; 1µg/l signe la présence de tissu thyroïdien normal ou pathologiqu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34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 taux de Tg doit toujours être interprété en fonction du taux de TSH, de la présence ou non d’ATg et du contexte clinique (cancer bien ou peu différencié) </a:t>
            </a:r>
            <a:r>
              <a:rPr b="0" lang="fr-FR" sz="1400" spc="-1" strike="noStrike">
                <a:solidFill>
                  <a:srgbClr val="ffc606"/>
                </a:solidFill>
                <a:latin typeface="Arial"/>
              </a:rPr>
              <a:t>(Baloch et al, </a:t>
            </a:r>
            <a:r>
              <a:rPr b="0" lang="da-DK" sz="1400" spc="-1" strike="noStrike">
                <a:solidFill>
                  <a:srgbClr val="ffc606"/>
                </a:solidFill>
                <a:latin typeface="Arial"/>
              </a:rPr>
              <a:t>2003 ; Schlumberger et al, 2004 ; Spencer et al, 2005)</a:t>
            </a:r>
            <a:endParaRPr b="0" lang="en-US" sz="1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>
              <a:spcBef>
                <a:spcPts val="34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80920" y="591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e9b400"/>
                </a:solidFill>
                <a:latin typeface="Arial"/>
              </a:rPr>
              <a:t>DOSAGE DE THYROGLOBULINE </a:t>
            </a:r>
            <a:br>
              <a:rPr sz="3200"/>
            </a:br>
            <a:endParaRPr b="1" lang="en-US" sz="32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 Box 2"/>
          <p:cNvSpPr/>
          <p:nvPr/>
        </p:nvSpPr>
        <p:spPr>
          <a:xfrm>
            <a:off x="1631880" y="285840"/>
            <a:ext cx="78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9b400"/>
                </a:solidFill>
                <a:latin typeface="Arial"/>
              </a:rPr>
              <a:t>DOSAGE DE THYROGLOBULINE</a:t>
            </a:r>
            <a:endParaRPr b="0" lang="en-US" sz="32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72" name="Text Box 3"/>
          <p:cNvSpPr/>
          <p:nvPr/>
        </p:nvSpPr>
        <p:spPr>
          <a:xfrm>
            <a:off x="5315040" y="54864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e9b400"/>
                </a:solidFill>
                <a:latin typeface="Arial"/>
              </a:rPr>
              <a:t>Tg en sevrage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pic>
        <p:nvPicPr>
          <p:cNvPr id="873" name="Picture 4" descr="correlation tg et masse tumoralr"/>
          <p:cNvPicPr/>
          <p:nvPr/>
        </p:nvPicPr>
        <p:blipFill>
          <a:blip r:embed="rId1"/>
          <a:stretch/>
        </p:blipFill>
        <p:spPr>
          <a:xfrm>
            <a:off x="203040" y="1125360"/>
            <a:ext cx="6944040" cy="5023080"/>
          </a:xfrm>
          <a:prstGeom prst="rect">
            <a:avLst/>
          </a:prstGeom>
          <a:ln w="0">
            <a:noFill/>
          </a:ln>
        </p:spPr>
      </p:pic>
      <p:sp>
        <p:nvSpPr>
          <p:cNvPr id="874" name="Text Box 5"/>
          <p:cNvSpPr/>
          <p:nvPr/>
        </p:nvSpPr>
        <p:spPr>
          <a:xfrm>
            <a:off x="201600" y="630864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e9b400"/>
                </a:solidFill>
                <a:latin typeface="Arial"/>
              </a:rPr>
              <a:t>Bachelot </a:t>
            </a:r>
            <a:r>
              <a:rPr b="0" i="1" lang="fr-FR" sz="1800" spc="-1" strike="noStrike">
                <a:solidFill>
                  <a:srgbClr val="e9b400"/>
                </a:solidFill>
                <a:latin typeface="Arial"/>
              </a:rPr>
              <a:t>et al</a:t>
            </a:r>
            <a:r>
              <a:rPr b="0" lang="fr-FR" sz="1800" spc="-1" strike="noStrike">
                <a:solidFill>
                  <a:srgbClr val="e9b400"/>
                </a:solidFill>
                <a:latin typeface="Arial"/>
              </a:rPr>
              <a:t>. Thyroid 2002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201600" y="1125360"/>
            <a:ext cx="33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Volume ganglionnaire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4579920" y="5805360"/>
            <a:ext cx="22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Tg en sevrage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77" name="Rectangle 8"/>
          <p:cNvSpPr/>
          <p:nvPr/>
        </p:nvSpPr>
        <p:spPr>
          <a:xfrm>
            <a:off x="7147080" y="2103480"/>
            <a:ext cx="254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L’échographie cervicale détecte des N1 de qq mm de diamètre.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 txBox="1"/>
          <p:nvPr/>
        </p:nvSpPr>
        <p:spPr>
          <a:xfrm>
            <a:off x="6519600" y="2209680"/>
            <a:ext cx="311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-  294 pts, Tg&lt; 1 ng/ml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23 récidives 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4 faux - de Tg/ TSH dont 3 récidives gg vues à l’échographie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Tg stimulée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451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Arial"/>
              </a:rPr>
              <a:t>Sensibilité: 78%</a:t>
            </a:r>
            <a:endParaRPr b="0" lang="en-US" sz="1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>
              <a:spcBef>
                <a:spcPts val="451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Arial"/>
              </a:rPr>
              <a:t>Spécificité: 100%</a:t>
            </a:r>
            <a:endParaRPr b="0" lang="en-US" sz="1800" spc="-1" strike="noStrike">
              <a:solidFill>
                <a:srgbClr val="fef3cf"/>
              </a:solidFill>
              <a:latin typeface="Arial"/>
            </a:endParaRPr>
          </a:p>
        </p:txBody>
      </p:sp>
      <p:pic>
        <p:nvPicPr>
          <p:cNvPr id="879" name="Picture 4" descr="tg sous rTSH pacini2003"/>
          <p:cNvPicPr/>
          <p:nvPr/>
        </p:nvPicPr>
        <p:blipFill>
          <a:blip r:embed="rId1"/>
          <a:stretch/>
        </p:blipFill>
        <p:spPr>
          <a:xfrm>
            <a:off x="930240" y="2060640"/>
            <a:ext cx="5589720" cy="381636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5"/>
          <p:cNvSpPr/>
          <p:nvPr/>
        </p:nvSpPr>
        <p:spPr>
          <a:xfrm>
            <a:off x="2470320" y="6237360"/>
            <a:ext cx="29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9b400"/>
                </a:solidFill>
                <a:latin typeface="Arial"/>
              </a:rPr>
              <a:t>Pacini et al, 2003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6880" y="4885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e9b400"/>
                </a:solidFill>
                <a:latin typeface="Arial"/>
              </a:rPr>
              <a:t>DOSAGE DE THYROGLOBULINE</a:t>
            </a:r>
            <a:endParaRPr b="1" lang="en-US" sz="32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723600" y="138744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2" marL="705600" indent="-325800" algn="just">
              <a:spcBef>
                <a:spcPts val="601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Même méthodologie que pour le dosage plasmatique de Thyroglobuline est recommandé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05600" indent="-325800" algn="just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05600" indent="-325800" algn="just">
              <a:spcBef>
                <a:spcPts val="300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Valeur seuil de thyroglobuline sur liquide de rinçage &gt;10 ng/ml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(Takeuchi Y et al 1999; Toubeau et a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004)</a:t>
            </a:r>
            <a:endParaRPr b="0" lang="en-US" sz="1200" spc="-1" strike="noStrike">
              <a:solidFill>
                <a:srgbClr val="fef3cf"/>
              </a:solidFill>
              <a:latin typeface="Arial"/>
            </a:endParaRPr>
          </a:p>
          <a:p>
            <a:pPr lvl="2" marL="705600" indent="-325800" algn="just">
              <a:spcBef>
                <a:spcPts val="601"/>
              </a:spcBef>
              <a:buClr>
                <a:srgbClr val="4b4c2d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05600" indent="-325800" algn="just">
              <a:spcBef>
                <a:spcPts val="601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Ce dosage + examen cytologique: ↑ sensibilité de la détection de métastases gg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05600" indent="-325800" algn="just">
              <a:spcBef>
                <a:spcPts val="601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05600" indent="-325800" algn="just">
              <a:spcBef>
                <a:spcPts val="300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Sensibilité non altérée par la présence d’anticorps anti-thyroglobuline</a:t>
            </a:r>
            <a:r>
              <a:rPr b="0" lang="da-D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ffff00"/>
                </a:solidFill>
                <a:latin typeface="Arial"/>
              </a:rPr>
              <a:t>(Steinkamp HJet al.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1995;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orlontano M et al.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004)</a:t>
            </a:r>
            <a:endParaRPr b="0" lang="en-US" sz="12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6880" y="476280"/>
            <a:ext cx="895212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</a:rPr>
              <a:t>SUR LIQUIDE DE RINÇAGE</a:t>
            </a:r>
            <a:br>
              <a:rPr sz="2800"/>
            </a:br>
            <a:endParaRPr b="1" lang="en-US" sz="28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07600" y="1112400"/>
            <a:ext cx="9131400" cy="53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 algn="just">
              <a:spcBef>
                <a:spcPts val="64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4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e pronostic des cancers thyroïdiens différenciés opérés dépend surtout du protocole initial, mais aussi des modalités de suivi en raison des possibilités de récidive tardive</a:t>
            </a: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4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4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Inclure aussi bien les patients à bas et haut risque</a:t>
            </a: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spcBef>
                <a:spcPts val="64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261720" y="1071360"/>
            <a:ext cx="9769320" cy="53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43040" indent="-343080" algn="just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43040" indent="-343080" algn="just">
              <a:spcBef>
                <a:spcPts val="601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Risques d’échec sont d’autant plus grands que l’adénopathie est petit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43040" indent="-343080" algn="just">
              <a:spcBef>
                <a:spcPts val="601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43040" indent="-343080" algn="just">
              <a:spcBef>
                <a:spcPts val="601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ADP retro-oesophagiennes ou en arrière des gros vaisseaux du cou inaccessibles à la ponction. 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43040" indent="-343080" algn="just">
              <a:spcBef>
                <a:spcPts val="601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743040" indent="-343080" algn="just">
              <a:spcBef>
                <a:spcPts val="601"/>
              </a:spcBef>
              <a:buClr>
                <a:srgbClr val="fef3cf"/>
              </a:buClr>
              <a:buSzPct val="85000"/>
              <a:buFont typeface="Wingdings" charset="2"/>
              <a:buChar char="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Risque de contamination du liquide de rinçage par du plasma qui pourrait conduire à doser dans le rinçage la Thyroglobuline d’origine sériqu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6880" y="476280"/>
            <a:ext cx="895212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</a:rPr>
              <a:t>SUR LIQUIDE DE RINÇAGE</a:t>
            </a:r>
            <a:br>
              <a:rPr sz="2800"/>
            </a:br>
            <a:endParaRPr b="1" lang="en-US" sz="28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101664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e9b400"/>
                </a:solidFill>
                <a:latin typeface="Arial"/>
              </a:rPr>
              <a:t>SCINTIGRAPHIE DIAGNOSTIQUE À L’I 131</a:t>
            </a:r>
            <a:endParaRPr b="1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4253040" y="5805360"/>
            <a:ext cx="35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9b400"/>
                </a:solidFill>
                <a:latin typeface="Arial"/>
              </a:rPr>
              <a:t>Schlumberger et al, 2007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282600" y="1413000"/>
            <a:ext cx="761508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ETUDE THYR-DIAG </a:t>
            </a: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Prospective, multicentrique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944 patients avec Tg sous LT4 &lt; 1 ng/ml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Tg et scintigraphie en défreination ou sous rh TSH à 9-12 mois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Récidive authentifiée: 30 patients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Résultats de la scintigraphie diagnostique: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  <a:ea typeface="MS PGothic"/>
              </a:rPr>
              <a:t> </a:t>
            </a: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douteuse dans 23 cas mais seulement 7 vrai positifs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 </a:t>
            </a: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Scinti +:  3/16 récidives ganglionnaires et 2/9 métastases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ef3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 </a:t>
            </a: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Sensibilité: </a:t>
            </a:r>
            <a:r>
              <a:rPr b="1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23%,</a:t>
            </a: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 Spécificité: 98%,  Impact: </a:t>
            </a:r>
            <a:r>
              <a:rPr b="1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0.7%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pic>
        <p:nvPicPr>
          <p:cNvPr id="889" name="Picture 5" descr="im9jpg"/>
          <p:cNvPicPr/>
          <p:nvPr/>
        </p:nvPicPr>
        <p:blipFill>
          <a:blip r:embed="rId1"/>
          <a:srcRect l="0" t="0" r="0" b="13146"/>
          <a:stretch/>
        </p:blipFill>
        <p:spPr>
          <a:xfrm>
            <a:off x="7980480" y="1712880"/>
            <a:ext cx="1866960" cy="1727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2"/>
          <p:cNvSpPr/>
          <p:nvPr/>
        </p:nvSpPr>
        <p:spPr>
          <a:xfrm>
            <a:off x="2955960" y="1125360"/>
            <a:ext cx="733104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ef3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  <a:ea typeface="MS PGothic"/>
              </a:rPr>
              <a:t>Performances inférieures à celle de l’échographie pour les récidives cervicales et à celle de la TDM pour les micronodules pulmonaires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ef3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ef3cf"/>
                </a:solidFill>
                <a:latin typeface="Arial"/>
                <a:ea typeface="MS PGothic"/>
              </a:rPr>
              <a:t>Facteurs conditionnant la positivité:</a:t>
            </a: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Taille des lésions (sens 60%&lt; 1 cm), Tg,différenciation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ef3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 </a:t>
            </a:r>
            <a:r>
              <a:rPr b="0" i="1" lang="fr-FR" sz="2000" spc="-1" strike="noStrike">
                <a:solidFill>
                  <a:srgbClr val="fef3cf"/>
                </a:solidFill>
                <a:latin typeface="Arial"/>
                <a:ea typeface="MS PGothic"/>
              </a:rPr>
              <a:t>Intérêt pour le bilan d’extension pré-thérapeutique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pic>
        <p:nvPicPr>
          <p:cNvPr id="891" name="Picture 3" descr="recidive localeTEP FDG"/>
          <p:cNvPicPr/>
          <p:nvPr/>
        </p:nvPicPr>
        <p:blipFill>
          <a:blip r:embed="rId1">
            <a:grayscl/>
          </a:blip>
          <a:srcRect l="21909" t="26960" r="24508" b="9848"/>
          <a:stretch/>
        </p:blipFill>
        <p:spPr>
          <a:xfrm>
            <a:off x="527040" y="836640"/>
            <a:ext cx="2473200" cy="34574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892" name="Picture 4" descr="recidive locale mini"/>
          <p:cNvPicPr/>
          <p:nvPr/>
        </p:nvPicPr>
        <p:blipFill>
          <a:blip r:embed="rId2"/>
          <a:srcRect l="20641" t="16024" r="22678" b="11594"/>
          <a:stretch/>
        </p:blipFill>
        <p:spPr>
          <a:xfrm>
            <a:off x="485640" y="4365720"/>
            <a:ext cx="2511720" cy="21384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93" name="Line 5"/>
          <p:cNvSpPr/>
          <p:nvPr/>
        </p:nvSpPr>
        <p:spPr>
          <a:xfrm flipH="1">
            <a:off x="1800000" y="1128600"/>
            <a:ext cx="687240" cy="3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94" name="Line 6"/>
          <p:cNvSpPr/>
          <p:nvPr/>
        </p:nvSpPr>
        <p:spPr>
          <a:xfrm flipH="1">
            <a:off x="1800000" y="1473120"/>
            <a:ext cx="687240" cy="3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95" name="Line 7"/>
          <p:cNvSpPr/>
          <p:nvPr/>
        </p:nvSpPr>
        <p:spPr>
          <a:xfrm flipH="1">
            <a:off x="2185920" y="1955880"/>
            <a:ext cx="687600" cy="3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96" name="Text Box 8"/>
          <p:cNvSpPr/>
          <p:nvPr/>
        </p:nvSpPr>
        <p:spPr>
          <a:xfrm>
            <a:off x="201600" y="225360"/>
            <a:ext cx="99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9b400"/>
                </a:solidFill>
                <a:latin typeface="Arial"/>
              </a:rPr>
              <a:t>INTÉRÊT DE LA TEP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97" name="Text Box 9"/>
          <p:cNvSpPr/>
          <p:nvPr/>
        </p:nvSpPr>
        <p:spPr>
          <a:xfrm>
            <a:off x="201600" y="6491160"/>
            <a:ext cx="34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9b400"/>
                </a:solidFill>
                <a:latin typeface="Palatino"/>
              </a:rPr>
              <a:t>Images de fusion PET-CT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pic>
        <p:nvPicPr>
          <p:cNvPr id="898" name="Picture 10" descr="correlationpettg"/>
          <p:cNvPicPr/>
          <p:nvPr/>
        </p:nvPicPr>
        <p:blipFill>
          <a:blip r:embed="rId3"/>
          <a:srcRect l="0" t="0" r="0" b="21450"/>
          <a:stretch/>
        </p:blipFill>
        <p:spPr>
          <a:xfrm>
            <a:off x="3767040" y="3500280"/>
            <a:ext cx="5104080" cy="287028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11"/>
          <p:cNvSpPr/>
          <p:nvPr/>
        </p:nvSpPr>
        <p:spPr>
          <a:xfrm>
            <a:off x="7748640" y="63817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9b400"/>
                </a:solidFill>
                <a:latin typeface="Arial"/>
              </a:rPr>
              <a:t>D’après Schulter et al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"/>
          <p:cNvPicPr/>
          <p:nvPr/>
        </p:nvPicPr>
        <p:blipFill>
          <a:blip r:embed="rId1"/>
          <a:stretch/>
        </p:blipFill>
        <p:spPr>
          <a:xfrm>
            <a:off x="770040" y="1442880"/>
            <a:ext cx="7613640" cy="4667400"/>
          </a:xfrm>
          <a:prstGeom prst="rect">
            <a:avLst/>
          </a:prstGeom>
          <a:ln w="0">
            <a:noFill/>
          </a:ln>
        </p:spPr>
      </p:pic>
      <p:sp>
        <p:nvSpPr>
          <p:cNvPr id="901" name="AutoShape 3"/>
          <p:cNvSpPr/>
          <p:nvPr/>
        </p:nvSpPr>
        <p:spPr>
          <a:xfrm>
            <a:off x="3929040" y="5013360"/>
            <a:ext cx="160200" cy="288720"/>
          </a:xfrm>
          <a:prstGeom prst="flowChartSort">
            <a:avLst/>
          </a:prstGeom>
          <a:solidFill>
            <a:srgbClr val="ff9900"/>
          </a:solidFill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4900680" y="6307200"/>
            <a:ext cx="4781520" cy="36828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Spécificité par patient : 84%  (95CI: 79-87)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03" name="Text Box 5"/>
          <p:cNvSpPr/>
          <p:nvPr/>
        </p:nvSpPr>
        <p:spPr>
          <a:xfrm>
            <a:off x="201600" y="6237360"/>
            <a:ext cx="47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Dong </a:t>
            </a:r>
            <a:r>
              <a:rPr b="0" i="1" lang="fr-FR" sz="2000" spc="-1" strike="noStrike">
                <a:solidFill>
                  <a:srgbClr val="e9b400"/>
                </a:solidFill>
                <a:latin typeface="Arial"/>
              </a:rPr>
              <a:t>et al.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 </a:t>
            </a:r>
            <a:r>
              <a:rPr b="0" lang="fr-FR" sz="2000" spc="-1" strike="noStrike" baseline="30000">
                <a:solidFill>
                  <a:srgbClr val="e9b4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04" name="Text Box 6"/>
          <p:cNvSpPr/>
          <p:nvPr/>
        </p:nvSpPr>
        <p:spPr>
          <a:xfrm>
            <a:off x="434880" y="4636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9b400"/>
                </a:solidFill>
                <a:latin typeface="Arial"/>
              </a:rPr>
              <a:t>SPÉCIFICITÉ DE LA TEP-FDG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930240" y="1268280"/>
            <a:ext cx="7615440" cy="4824720"/>
          </a:xfrm>
          <a:prstGeom prst="rect">
            <a:avLst/>
          </a:prstGeom>
          <a:ln w="0">
            <a:noFill/>
          </a:ln>
        </p:spPr>
      </p:pic>
      <p:sp>
        <p:nvSpPr>
          <p:cNvPr id="906" name="AutoShape 3"/>
          <p:cNvSpPr/>
          <p:nvPr/>
        </p:nvSpPr>
        <p:spPr>
          <a:xfrm>
            <a:off x="4295880" y="5059440"/>
            <a:ext cx="160200" cy="288720"/>
          </a:xfrm>
          <a:prstGeom prst="flowChartSort">
            <a:avLst/>
          </a:prstGeom>
          <a:solidFill>
            <a:srgbClr val="ff9900"/>
          </a:solidFill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07" name="Text Box 4"/>
          <p:cNvSpPr/>
          <p:nvPr/>
        </p:nvSpPr>
        <p:spPr>
          <a:xfrm>
            <a:off x="4638600" y="6237360"/>
            <a:ext cx="4861080" cy="36828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Sensibilité par patient: 83%  (95CI: 79-87)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08" name="Text Box 5"/>
          <p:cNvSpPr/>
          <p:nvPr/>
        </p:nvSpPr>
        <p:spPr>
          <a:xfrm>
            <a:off x="201600" y="6237360"/>
            <a:ext cx="47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Dong </a:t>
            </a:r>
            <a:r>
              <a:rPr b="0" i="1" lang="fr-FR" sz="2000" spc="-1" strike="noStrike">
                <a:solidFill>
                  <a:srgbClr val="e9b400"/>
                </a:solidFill>
                <a:latin typeface="Arial"/>
              </a:rPr>
              <a:t>et al.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 </a:t>
            </a:r>
            <a:r>
              <a:rPr b="0" lang="fr-FR" sz="2000" spc="-1" strike="noStrike" baseline="30000">
                <a:solidFill>
                  <a:srgbClr val="e9b4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09" name="Text Box 6"/>
          <p:cNvSpPr/>
          <p:nvPr/>
        </p:nvSpPr>
        <p:spPr>
          <a:xfrm>
            <a:off x="851040" y="333360"/>
            <a:ext cx="80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9b400"/>
                </a:solidFill>
                <a:latin typeface="Arial"/>
              </a:rPr>
              <a:t>SENSIBILITÉ DE LA TEP-FDG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2"/>
          <p:cNvSpPr/>
          <p:nvPr/>
        </p:nvSpPr>
        <p:spPr>
          <a:xfrm>
            <a:off x="380880" y="22860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9b400"/>
                </a:solidFill>
                <a:latin typeface="Arial"/>
              </a:rPr>
              <a:t>SCANNER ET MÉTASTASES PULMONAIRES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851040" y="1484280"/>
            <a:ext cx="891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Sensibilité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n lésions pulmonaires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FDG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CT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Zoller, </a:t>
            </a:r>
            <a:r>
              <a:rPr b="0" lang="fr-FR" sz="2000" spc="-1" strike="noStrike" baseline="30000">
                <a:solidFill>
                  <a:srgbClr val="e9b400"/>
                </a:solidFill>
                <a:latin typeface="Arial"/>
              </a:rPr>
              <a:t>07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41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63%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12" name="Line 4"/>
          <p:cNvSpPr/>
          <p:nvPr/>
        </p:nvSpPr>
        <p:spPr>
          <a:xfrm>
            <a:off x="3117960" y="2492280"/>
            <a:ext cx="6481800" cy="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pic>
        <p:nvPicPr>
          <p:cNvPr id="913" name="Picture 5" descr="PERIERE MICRONOD PULM"/>
          <p:cNvPicPr/>
          <p:nvPr/>
        </p:nvPicPr>
        <p:blipFill>
          <a:blip r:embed="rId1"/>
          <a:stretch/>
        </p:blipFill>
        <p:spPr>
          <a:xfrm>
            <a:off x="851040" y="3860640"/>
            <a:ext cx="3776400" cy="23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4" name="Picture 6" descr="PERIERE MILIAIRE PULM TEP COR TRANSVERSE"/>
          <p:cNvPicPr/>
          <p:nvPr/>
        </p:nvPicPr>
        <p:blipFill>
          <a:blip r:embed="rId2"/>
          <a:stretch/>
        </p:blipFill>
        <p:spPr>
          <a:xfrm>
            <a:off x="5386320" y="3860640"/>
            <a:ext cx="3780000" cy="2367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15" name="Line 7"/>
          <p:cNvSpPr/>
          <p:nvPr/>
        </p:nvSpPr>
        <p:spPr>
          <a:xfrm flipH="1">
            <a:off x="769680" y="4508640"/>
            <a:ext cx="1214280" cy="2887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16" name="Line 8"/>
          <p:cNvSpPr/>
          <p:nvPr/>
        </p:nvSpPr>
        <p:spPr>
          <a:xfrm flipH="1">
            <a:off x="1012680" y="4581360"/>
            <a:ext cx="1214640" cy="2890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17" name="Line 9"/>
          <p:cNvSpPr/>
          <p:nvPr/>
        </p:nvSpPr>
        <p:spPr>
          <a:xfrm flipH="1">
            <a:off x="201240" y="5373720"/>
            <a:ext cx="1214280" cy="2887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Text Box 2"/>
          <p:cNvSpPr/>
          <p:nvPr/>
        </p:nvSpPr>
        <p:spPr>
          <a:xfrm>
            <a:off x="380880" y="22860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9b400"/>
                </a:solidFill>
                <a:latin typeface="Arial"/>
              </a:rPr>
              <a:t>DIAGNOSTIC DES MÉTASTASES OSSEUSES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pic>
        <p:nvPicPr>
          <p:cNvPr id="919" name="Picture 3" descr="DELOT IRM"/>
          <p:cNvPicPr/>
          <p:nvPr/>
        </p:nvPicPr>
        <p:blipFill>
          <a:blip r:embed="rId1"/>
          <a:stretch/>
        </p:blipFill>
        <p:spPr>
          <a:xfrm>
            <a:off x="6845400" y="2637000"/>
            <a:ext cx="3006720" cy="36576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Desc_30_11_05"/>
          <p:cNvPicPr/>
          <p:nvPr/>
        </p:nvPicPr>
        <p:blipFill>
          <a:blip r:embed="rId2">
            <a:lum contrast="18000"/>
          </a:blip>
          <a:srcRect l="14194" t="17189" r="73753" b="54475"/>
          <a:stretch/>
        </p:blipFill>
        <p:spPr>
          <a:xfrm>
            <a:off x="3662280" y="1341360"/>
            <a:ext cx="2962440" cy="495324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5"/>
          <p:cNvSpPr/>
          <p:nvPr/>
        </p:nvSpPr>
        <p:spPr>
          <a:xfrm>
            <a:off x="7023240" y="576108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MRI T2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22" name="Text Box 6"/>
          <p:cNvSpPr/>
          <p:nvPr/>
        </p:nvSpPr>
        <p:spPr>
          <a:xfrm>
            <a:off x="3662280" y="629460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FDG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pic>
        <p:nvPicPr>
          <p:cNvPr id="923" name="Picture 7" descr=""/>
          <p:cNvPicPr/>
          <p:nvPr/>
        </p:nvPicPr>
        <p:blipFill>
          <a:blip r:embed="rId3"/>
          <a:stretch/>
        </p:blipFill>
        <p:spPr>
          <a:xfrm>
            <a:off x="343080" y="1603440"/>
            <a:ext cx="2630160" cy="4705200"/>
          </a:xfrm>
          <a:prstGeom prst="rect">
            <a:avLst/>
          </a:prstGeom>
          <a:ln w="0">
            <a:noFill/>
          </a:ln>
        </p:spPr>
      </p:pic>
      <p:sp>
        <p:nvSpPr>
          <p:cNvPr id="924" name="Text Box 8"/>
          <p:cNvSpPr/>
          <p:nvPr/>
        </p:nvSpPr>
        <p:spPr>
          <a:xfrm>
            <a:off x="444600" y="6294600"/>
            <a:ext cx="13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9520" y="250560"/>
            <a:ext cx="91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e9b400"/>
                </a:solidFill>
                <a:latin typeface="Arial"/>
              </a:rPr>
              <a:t>TRAITEMENT PAR L-THYROXINE</a:t>
            </a:r>
            <a:endParaRPr b="1" lang="en-US" sz="32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304560" y="1988640"/>
            <a:ext cx="969804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fef3cf"/>
                </a:solidFill>
                <a:latin typeface="Arial"/>
              </a:rPr>
              <a:t>Indispensable chez TOUS les patients opérés d’un cancer de la thyroïde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fef3cf"/>
                </a:solidFill>
                <a:latin typeface="Arial"/>
              </a:rPr>
              <a:t>Ce traitement a deux buts: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lnSpc>
                <a:spcPct val="90000"/>
              </a:lnSpc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fef3cf"/>
                </a:solidFill>
                <a:latin typeface="Arial"/>
              </a:rPr>
              <a:t>Rétablir l’euthyroïdie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lnSpc>
                <a:spcPct val="90000"/>
              </a:lnSpc>
              <a:spcBef>
                <a:spcPts val="700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fef3cf"/>
                </a:solidFill>
                <a:latin typeface="Arial"/>
              </a:rPr>
              <a:t>freiner la sécrétion de TSH, ce qui risque d ’induire une thyrotoxicose prolongée avec ses effets immédiats et à long terme (os, cœur).</a:t>
            </a:r>
            <a:endParaRPr b="0" lang="en-US" sz="28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093680" y="0"/>
            <a:ext cx="761544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e9b400"/>
                </a:solidFill>
                <a:latin typeface="Arial"/>
              </a:rPr>
              <a:t>TRAITEMENT PAR LA L-THYROXINE </a:t>
            </a:r>
            <a:endParaRPr b="1" lang="en-US" sz="32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-130680" y="1981080"/>
            <a:ext cx="461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Maladie avancée: 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TSH &lt; 0.1 µU/mL: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lnSpc>
                <a:spcPct val="90000"/>
              </a:lnSpc>
              <a:spcBef>
                <a:spcPts val="499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Ralentit la croissance tumorale TSH-dépendante 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lnSpc>
                <a:spcPct val="90000"/>
              </a:lnSpc>
              <a:spcBef>
                <a:spcPts val="499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N’inhibe pas la croissance tumorale TSH indépendante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Autres patients: 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lnSpc>
                <a:spcPct val="90000"/>
              </a:lnSpc>
              <a:spcBef>
                <a:spcPts val="499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Taux de TSH « normal » après s’être assuré de la guérison.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</p:txBody>
      </p:sp>
      <p:graphicFrame>
        <p:nvGraphicFramePr>
          <p:cNvPr id="929" name="Object 4"/>
          <p:cNvGraphicFramePr/>
          <p:nvPr/>
        </p:nvGraphicFramePr>
        <p:xfrm>
          <a:off x="4543560" y="2895480"/>
          <a:ext cx="5657760" cy="2860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43560" y="2895480"/>
                    <a:ext cx="565776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Text Box 5"/>
          <p:cNvSpPr/>
          <p:nvPr/>
        </p:nvSpPr>
        <p:spPr>
          <a:xfrm>
            <a:off x="6975360" y="614988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Biondi, Nature CP, 2005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HAS, 2010/ 2013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2" descr=""/>
          <p:cNvPicPr/>
          <p:nvPr/>
        </p:nvPicPr>
        <p:blipFill>
          <a:blip r:embed="rId1"/>
          <a:stretch/>
        </p:blipFill>
        <p:spPr>
          <a:xfrm>
            <a:off x="3344760" y="0"/>
            <a:ext cx="6942240" cy="685800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2"/>
          <p:cNvSpPr/>
          <p:nvPr/>
        </p:nvSpPr>
        <p:spPr>
          <a:xfrm>
            <a:off x="52560" y="21081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9b400"/>
                </a:solidFill>
                <a:latin typeface="Arial"/>
              </a:rPr>
              <a:t>HAS: 2010/2014</a:t>
            </a:r>
            <a:endParaRPr b="0" lang="en-US" sz="3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526680" y="1700280"/>
            <a:ext cx="909972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60360" indent="-36036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Clinique 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1396800" indent="-112320">
              <a:spcBef>
                <a:spcPts val="499"/>
              </a:spcBef>
              <a:buClr>
                <a:srgbClr val="fef3c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souvent prise en défaut 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lvl="2" marL="1396800" indent="-112320">
              <a:spcBef>
                <a:spcPts val="499"/>
              </a:spcBef>
              <a:buClr>
                <a:srgbClr val="fef3c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Récidives infracentimétriques: 30-50 % des cas 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lvl="2" marL="1396800" indent="-112320">
              <a:spcBef>
                <a:spcPts val="499"/>
              </a:spcBef>
              <a:buClr>
                <a:srgbClr val="fef3c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Adénopathies palpables : 20- 40 % 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lvl="2" marL="1396800" indent="-112320">
              <a:spcBef>
                <a:spcPts val="499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Dosage de thyroglobulin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1396800" indent="-112320">
              <a:spcBef>
                <a:spcPts val="499"/>
              </a:spcBef>
              <a:buClr>
                <a:srgbClr val="fef3c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Reflete la masse de tissu thyroïdien, le degré de stimulation par la TSH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lvl="2" marL="1396800" indent="-112320">
              <a:spcBef>
                <a:spcPts val="499"/>
              </a:spcBef>
              <a:buClr>
                <a:srgbClr val="fef3c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ef3cf"/>
                </a:solidFill>
                <a:latin typeface="Arial"/>
              </a:rPr>
              <a:t>Sensibilite dans les récidives ganglionnaires 80% sous LT4, 95% sous stimulation (Schlumberger 1995, 2007)</a:t>
            </a:r>
            <a:endParaRPr b="0" lang="en-US" sz="2000" spc="-1" strike="noStrike">
              <a:solidFill>
                <a:srgbClr val="fef3cf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Echographie et imagerie isotopiqu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Sensibilité+++ 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6880" y="475920"/>
            <a:ext cx="895212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e9b400"/>
                </a:solidFill>
                <a:latin typeface="Arial"/>
              </a:rPr>
              <a:t>MODALITES DU SUIVI</a:t>
            </a:r>
            <a:endParaRPr b="1" lang="en-US" sz="32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2" descr=""/>
          <p:cNvPicPr/>
          <p:nvPr/>
        </p:nvPicPr>
        <p:blipFill>
          <a:blip r:embed="rId1"/>
          <a:stretch/>
        </p:blipFill>
        <p:spPr>
          <a:xfrm>
            <a:off x="3578400" y="236520"/>
            <a:ext cx="6472080" cy="6464160"/>
          </a:xfrm>
          <a:prstGeom prst="rect">
            <a:avLst/>
          </a:prstGeom>
          <a:ln w="0">
            <a:noFill/>
          </a:ln>
        </p:spPr>
      </p:pic>
      <p:sp>
        <p:nvSpPr>
          <p:cNvPr id="935" name="Rectangle 2"/>
          <p:cNvSpPr/>
          <p:nvPr/>
        </p:nvSpPr>
        <p:spPr>
          <a:xfrm>
            <a:off x="52560" y="21081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9b400"/>
                </a:solidFill>
                <a:latin typeface="Arial"/>
              </a:rPr>
              <a:t>HAS: 2010/2014</a:t>
            </a:r>
            <a:endParaRPr b="0" lang="en-US" sz="3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893880" y="1528920"/>
            <a:ext cx="8497800" cy="494820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2"/>
          <p:cNvSpPr/>
          <p:nvPr/>
        </p:nvSpPr>
        <p:spPr>
          <a:xfrm>
            <a:off x="1959120" y="227160"/>
            <a:ext cx="54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9b400"/>
                </a:solidFill>
                <a:latin typeface="Arial"/>
              </a:rPr>
              <a:t>HAS: 2010 /2012 / 2014</a:t>
            </a:r>
            <a:endParaRPr b="0" lang="en-US" sz="3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2"/>
          <p:cNvSpPr/>
          <p:nvPr/>
        </p:nvSpPr>
        <p:spPr>
          <a:xfrm>
            <a:off x="1903320" y="189000"/>
            <a:ext cx="5345280" cy="54108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Thyroïdectomie totale et ablation par </a:t>
            </a:r>
            <a:r>
              <a:rPr b="0" lang="fr-FR" sz="1600" spc="-1" strike="noStrike" baseline="30000">
                <a:solidFill>
                  <a:srgbClr val="fef3cf"/>
                </a:solidFill>
                <a:latin typeface="Arial"/>
              </a:rPr>
              <a:t>131</a:t>
            </a: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39" name="Text Box 3"/>
          <p:cNvSpPr/>
          <p:nvPr/>
        </p:nvSpPr>
        <p:spPr>
          <a:xfrm>
            <a:off x="2712960" y="1108080"/>
            <a:ext cx="4014720" cy="30492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3 mois : ( LT4) TSH, Tg , T3l 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40" name="Line 4"/>
          <p:cNvSpPr/>
          <p:nvPr/>
        </p:nvSpPr>
        <p:spPr>
          <a:xfrm>
            <a:off x="4575240" y="797040"/>
            <a:ext cx="11160" cy="255600"/>
          </a:xfrm>
          <a:prstGeom prst="line">
            <a:avLst/>
          </a:prstGeom>
          <a:ln w="2844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2373480" y="1878120"/>
            <a:ext cx="5117760" cy="39852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6-12 mois: (LT4) Tg stimulée + écho cervicale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42" name="Line 6"/>
          <p:cNvSpPr/>
          <p:nvPr/>
        </p:nvSpPr>
        <p:spPr>
          <a:xfrm>
            <a:off x="4584600" y="1447920"/>
            <a:ext cx="1800" cy="336600"/>
          </a:xfrm>
          <a:prstGeom prst="line">
            <a:avLst/>
          </a:prstGeom>
          <a:ln w="2844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43" name="Line 7"/>
          <p:cNvSpPr/>
          <p:nvPr/>
        </p:nvSpPr>
        <p:spPr>
          <a:xfrm>
            <a:off x="4584600" y="2209680"/>
            <a:ext cx="1800" cy="57168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44" name="Text Box 10"/>
          <p:cNvSpPr/>
          <p:nvPr/>
        </p:nvSpPr>
        <p:spPr>
          <a:xfrm>
            <a:off x="858960" y="2870280"/>
            <a:ext cx="2141280" cy="838080"/>
          </a:xfrm>
          <a:prstGeom prst="rect">
            <a:avLst/>
          </a:prstGeom>
          <a:solidFill>
            <a:srgbClr val="2d2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Tg indétectable et écho cervicale normale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45" name="Text Box 11"/>
          <p:cNvSpPr/>
          <p:nvPr/>
        </p:nvSpPr>
        <p:spPr>
          <a:xfrm>
            <a:off x="3281400" y="2781360"/>
            <a:ext cx="2430360" cy="93492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Tg élevée +  Echo cervicale normale (taux institutionnel)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46" name="Text Box 12"/>
          <p:cNvSpPr/>
          <p:nvPr/>
        </p:nvSpPr>
        <p:spPr>
          <a:xfrm>
            <a:off x="5925960" y="2946240"/>
            <a:ext cx="2990880" cy="838440"/>
          </a:xfrm>
          <a:prstGeom prst="rect">
            <a:avLst/>
          </a:prstGeom>
          <a:solidFill>
            <a:srgbClr val="2d2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Tg élevée +  Echo cervicale anormale (taux institutionnel)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47" name="Text Box 13"/>
          <p:cNvSpPr/>
          <p:nvPr/>
        </p:nvSpPr>
        <p:spPr>
          <a:xfrm>
            <a:off x="687240" y="4089240"/>
            <a:ext cx="2430720" cy="106848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Diminution des doses de LT4. Suivi annuel avec dosage de Tg/T4 et TSH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3281400" y="4052880"/>
            <a:ext cx="2430360" cy="81612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Répétition dosage de Tg stimulée et écho cervicale (1 an)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49" name="Text Box 16"/>
          <p:cNvSpPr/>
          <p:nvPr/>
        </p:nvSpPr>
        <p:spPr>
          <a:xfrm>
            <a:off x="5791320" y="4148280"/>
            <a:ext cx="2997000" cy="576000"/>
          </a:xfrm>
          <a:prstGeom prst="rect">
            <a:avLst/>
          </a:prstGeom>
          <a:solidFill>
            <a:srgbClr val="2d2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Sevrage en LT4 et administration de </a:t>
            </a:r>
            <a:r>
              <a:rPr b="0" lang="fr-FR" sz="1600" spc="-1" strike="noStrike" baseline="30000">
                <a:solidFill>
                  <a:srgbClr val="fef3cf"/>
                </a:solidFill>
                <a:latin typeface="Arial"/>
              </a:rPr>
              <a:t>131</a:t>
            </a: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0" name="Line 17"/>
          <p:cNvSpPr/>
          <p:nvPr/>
        </p:nvSpPr>
        <p:spPr>
          <a:xfrm>
            <a:off x="2243160" y="3708360"/>
            <a:ext cx="0" cy="33660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1" name="Line 18"/>
          <p:cNvSpPr/>
          <p:nvPr/>
        </p:nvSpPr>
        <p:spPr>
          <a:xfrm>
            <a:off x="7202520" y="3784680"/>
            <a:ext cx="0" cy="18396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2" name="Line 19"/>
          <p:cNvSpPr/>
          <p:nvPr/>
        </p:nvSpPr>
        <p:spPr>
          <a:xfrm>
            <a:off x="4516560" y="3708360"/>
            <a:ext cx="0" cy="35568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3" name="Rectangle 20"/>
          <p:cNvSpPr/>
          <p:nvPr/>
        </p:nvSpPr>
        <p:spPr>
          <a:xfrm>
            <a:off x="6357960" y="6165720"/>
            <a:ext cx="1868400" cy="54288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En augmentation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4" name="Rectangle 21"/>
          <p:cNvSpPr/>
          <p:nvPr/>
        </p:nvSpPr>
        <p:spPr>
          <a:xfrm>
            <a:off x="3117960" y="5589720"/>
            <a:ext cx="3079800" cy="119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Détectable mais en diminution: garder TSH freinée et contrôle de Tg stimulée + 1 an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5" name="Line 22"/>
          <p:cNvSpPr/>
          <p:nvPr/>
        </p:nvSpPr>
        <p:spPr>
          <a:xfrm>
            <a:off x="1801800" y="2565360"/>
            <a:ext cx="5399280" cy="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6" name="Line 23"/>
          <p:cNvSpPr/>
          <p:nvPr/>
        </p:nvSpPr>
        <p:spPr>
          <a:xfrm>
            <a:off x="1801800" y="2565360"/>
            <a:ext cx="0" cy="26676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7" name="Line 24"/>
          <p:cNvSpPr/>
          <p:nvPr/>
        </p:nvSpPr>
        <p:spPr>
          <a:xfrm flipH="1">
            <a:off x="7201080" y="2565360"/>
            <a:ext cx="1440" cy="30492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8" name="Line 25"/>
          <p:cNvSpPr/>
          <p:nvPr/>
        </p:nvSpPr>
        <p:spPr>
          <a:xfrm>
            <a:off x="4495680" y="4941720"/>
            <a:ext cx="1800" cy="571680"/>
          </a:xfrm>
          <a:prstGeom prst="line">
            <a:avLst/>
          </a:prstGeom>
          <a:ln w="936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59" name="Line 26"/>
          <p:cNvSpPr/>
          <p:nvPr/>
        </p:nvSpPr>
        <p:spPr>
          <a:xfrm>
            <a:off x="4657680" y="4941720"/>
            <a:ext cx="2679840" cy="1243080"/>
          </a:xfrm>
          <a:prstGeom prst="line">
            <a:avLst/>
          </a:prstGeom>
          <a:ln w="936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60" name="Line 27"/>
          <p:cNvSpPr/>
          <p:nvPr/>
        </p:nvSpPr>
        <p:spPr>
          <a:xfrm flipH="1">
            <a:off x="1660320" y="4941720"/>
            <a:ext cx="2671560" cy="1257480"/>
          </a:xfrm>
          <a:prstGeom prst="line">
            <a:avLst/>
          </a:prstGeom>
          <a:ln w="936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61" name="Line 28"/>
          <p:cNvSpPr/>
          <p:nvPr/>
        </p:nvSpPr>
        <p:spPr>
          <a:xfrm>
            <a:off x="8288280" y="6299280"/>
            <a:ext cx="257400" cy="144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62" name="Line 29"/>
          <p:cNvSpPr/>
          <p:nvPr/>
        </p:nvSpPr>
        <p:spPr>
          <a:xfrm flipV="1">
            <a:off x="8543880" y="4927680"/>
            <a:ext cx="1800" cy="1371600"/>
          </a:xfrm>
          <a:prstGeom prst="line">
            <a:avLst/>
          </a:prstGeom>
          <a:ln w="936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63" name="Line 30"/>
          <p:cNvSpPr/>
          <p:nvPr/>
        </p:nvSpPr>
        <p:spPr>
          <a:xfrm flipH="1">
            <a:off x="930240" y="6299280"/>
            <a:ext cx="257040" cy="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64" name="Line 31"/>
          <p:cNvSpPr/>
          <p:nvPr/>
        </p:nvSpPr>
        <p:spPr>
          <a:xfrm flipV="1">
            <a:off x="930240" y="5155920"/>
            <a:ext cx="0" cy="1143000"/>
          </a:xfrm>
          <a:prstGeom prst="line">
            <a:avLst/>
          </a:prstGeom>
          <a:ln w="936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65" name="Text Box 32"/>
          <p:cNvSpPr/>
          <p:nvPr/>
        </p:nvSpPr>
        <p:spPr>
          <a:xfrm>
            <a:off x="7331040" y="54936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Consensus Européen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66" name="Rectangle 33"/>
          <p:cNvSpPr/>
          <p:nvPr/>
        </p:nvSpPr>
        <p:spPr>
          <a:xfrm>
            <a:off x="1173240" y="6237360"/>
            <a:ext cx="17413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Indétectable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2"/>
          <p:cNvSpPr/>
          <p:nvPr/>
        </p:nvSpPr>
        <p:spPr>
          <a:xfrm>
            <a:off x="1903320" y="189000"/>
            <a:ext cx="5345280" cy="54108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Thyroïdectomie totale et ablation par </a:t>
            </a:r>
            <a:r>
              <a:rPr b="0" lang="fr-FR" sz="1600" spc="-1" strike="noStrike" baseline="30000">
                <a:solidFill>
                  <a:srgbClr val="fef3cf"/>
                </a:solidFill>
                <a:latin typeface="Arial"/>
              </a:rPr>
              <a:t>131</a:t>
            </a: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Scinti post-thérapeutique normale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2712960" y="1108080"/>
            <a:ext cx="4014720" cy="30492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3 mois : ( LT4) TSH, Tg , T3l 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69" name="Line 4"/>
          <p:cNvSpPr/>
          <p:nvPr/>
        </p:nvSpPr>
        <p:spPr>
          <a:xfrm>
            <a:off x="4584600" y="716040"/>
            <a:ext cx="1800" cy="336600"/>
          </a:xfrm>
          <a:prstGeom prst="line">
            <a:avLst/>
          </a:prstGeom>
          <a:ln w="2844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0" name="Text Box 5"/>
          <p:cNvSpPr/>
          <p:nvPr/>
        </p:nvSpPr>
        <p:spPr>
          <a:xfrm>
            <a:off x="2373480" y="1878120"/>
            <a:ext cx="5117760" cy="3985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6-12 mois: (LT4) Tg stimulée + écho cervicale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1" name="Line 6"/>
          <p:cNvSpPr/>
          <p:nvPr/>
        </p:nvSpPr>
        <p:spPr>
          <a:xfrm>
            <a:off x="4584600" y="1447920"/>
            <a:ext cx="1800" cy="336600"/>
          </a:xfrm>
          <a:prstGeom prst="line">
            <a:avLst/>
          </a:prstGeom>
          <a:ln w="2844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2" name="Line 7"/>
          <p:cNvSpPr/>
          <p:nvPr/>
        </p:nvSpPr>
        <p:spPr>
          <a:xfrm>
            <a:off x="4584600" y="2209680"/>
            <a:ext cx="1800" cy="57168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3" name="Text Box 10"/>
          <p:cNvSpPr/>
          <p:nvPr/>
        </p:nvSpPr>
        <p:spPr>
          <a:xfrm>
            <a:off x="858960" y="2870280"/>
            <a:ext cx="2141280" cy="838080"/>
          </a:xfrm>
          <a:prstGeom prst="rect">
            <a:avLst/>
          </a:prstGeom>
          <a:solidFill>
            <a:srgbClr val="2d2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Tg indétectable et écho cervicale normale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4" name="Text Box 11"/>
          <p:cNvSpPr/>
          <p:nvPr/>
        </p:nvSpPr>
        <p:spPr>
          <a:xfrm>
            <a:off x="3281400" y="2781360"/>
            <a:ext cx="2430360" cy="93492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Tg élevée +  Echo cervicale normale (taux institutionnel)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5" name="Text Box 12"/>
          <p:cNvSpPr/>
          <p:nvPr/>
        </p:nvSpPr>
        <p:spPr>
          <a:xfrm>
            <a:off x="5925960" y="2946240"/>
            <a:ext cx="2990880" cy="838440"/>
          </a:xfrm>
          <a:prstGeom prst="rect">
            <a:avLst/>
          </a:prstGeom>
          <a:solidFill>
            <a:srgbClr val="2d2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Tg élevée +  Echo cervicale anormale (taux institutionnel)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6" name="Text Box 13"/>
          <p:cNvSpPr/>
          <p:nvPr/>
        </p:nvSpPr>
        <p:spPr>
          <a:xfrm>
            <a:off x="687240" y="4089240"/>
            <a:ext cx="2430720" cy="106848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Diminution des doses de LT4. Suivi annuel avec dosage de Tg/T4 et TSH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7" name="Text Box 14"/>
          <p:cNvSpPr/>
          <p:nvPr/>
        </p:nvSpPr>
        <p:spPr>
          <a:xfrm>
            <a:off x="3281400" y="4052880"/>
            <a:ext cx="2430360" cy="81612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Répétition dosage de Tg stimulée et écho cervicale (1 an)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8" name="Text Box 16"/>
          <p:cNvSpPr/>
          <p:nvPr/>
        </p:nvSpPr>
        <p:spPr>
          <a:xfrm>
            <a:off x="5791320" y="4148280"/>
            <a:ext cx="2997000" cy="576000"/>
          </a:xfrm>
          <a:prstGeom prst="rect">
            <a:avLst/>
          </a:prstGeom>
          <a:solidFill>
            <a:srgbClr val="2d2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Sevrage en LT4 et administration de </a:t>
            </a:r>
            <a:r>
              <a:rPr b="0" lang="fr-FR" sz="1600" spc="-1" strike="noStrike" baseline="30000">
                <a:solidFill>
                  <a:srgbClr val="fef3cf"/>
                </a:solidFill>
                <a:latin typeface="Arial"/>
              </a:rPr>
              <a:t>131</a:t>
            </a: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79" name="Line 17"/>
          <p:cNvSpPr/>
          <p:nvPr/>
        </p:nvSpPr>
        <p:spPr>
          <a:xfrm>
            <a:off x="2243160" y="3708360"/>
            <a:ext cx="0" cy="33660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80" name="Line 18"/>
          <p:cNvSpPr/>
          <p:nvPr/>
        </p:nvSpPr>
        <p:spPr>
          <a:xfrm>
            <a:off x="7202520" y="3784680"/>
            <a:ext cx="0" cy="18396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81" name="Line 19"/>
          <p:cNvSpPr/>
          <p:nvPr/>
        </p:nvSpPr>
        <p:spPr>
          <a:xfrm>
            <a:off x="4516560" y="3708360"/>
            <a:ext cx="0" cy="35568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82" name="Rectangle 20"/>
          <p:cNvSpPr/>
          <p:nvPr/>
        </p:nvSpPr>
        <p:spPr>
          <a:xfrm>
            <a:off x="6357960" y="6165720"/>
            <a:ext cx="1868400" cy="54288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En augmentation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83" name="Rectangle 21"/>
          <p:cNvSpPr/>
          <p:nvPr/>
        </p:nvSpPr>
        <p:spPr>
          <a:xfrm>
            <a:off x="3117960" y="5589720"/>
            <a:ext cx="3079800" cy="119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Détectable mais en diminution: garder TSH freinée et contrôle de Tg stimulée + 1 an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84" name="Line 22"/>
          <p:cNvSpPr/>
          <p:nvPr/>
        </p:nvSpPr>
        <p:spPr>
          <a:xfrm>
            <a:off x="1801800" y="2565360"/>
            <a:ext cx="5399280" cy="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85" name="Line 23"/>
          <p:cNvSpPr/>
          <p:nvPr/>
        </p:nvSpPr>
        <p:spPr>
          <a:xfrm>
            <a:off x="1801800" y="2565360"/>
            <a:ext cx="0" cy="26676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86" name="Line 24"/>
          <p:cNvSpPr/>
          <p:nvPr/>
        </p:nvSpPr>
        <p:spPr>
          <a:xfrm flipH="1">
            <a:off x="7201080" y="2565360"/>
            <a:ext cx="1440" cy="30492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87" name="Line 25"/>
          <p:cNvSpPr/>
          <p:nvPr/>
        </p:nvSpPr>
        <p:spPr>
          <a:xfrm>
            <a:off x="4495680" y="4941720"/>
            <a:ext cx="1800" cy="571680"/>
          </a:xfrm>
          <a:prstGeom prst="line">
            <a:avLst/>
          </a:prstGeom>
          <a:ln w="936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88" name="Line 26"/>
          <p:cNvSpPr/>
          <p:nvPr/>
        </p:nvSpPr>
        <p:spPr>
          <a:xfrm>
            <a:off x="4657680" y="4941720"/>
            <a:ext cx="2679840" cy="1243080"/>
          </a:xfrm>
          <a:prstGeom prst="line">
            <a:avLst/>
          </a:prstGeom>
          <a:ln w="936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89" name="Line 27"/>
          <p:cNvSpPr/>
          <p:nvPr/>
        </p:nvSpPr>
        <p:spPr>
          <a:xfrm flipH="1">
            <a:off x="1660320" y="4941720"/>
            <a:ext cx="2671560" cy="1257480"/>
          </a:xfrm>
          <a:prstGeom prst="line">
            <a:avLst/>
          </a:prstGeom>
          <a:ln w="936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90" name="Line 28"/>
          <p:cNvSpPr/>
          <p:nvPr/>
        </p:nvSpPr>
        <p:spPr>
          <a:xfrm>
            <a:off x="8288280" y="6299280"/>
            <a:ext cx="257400" cy="144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91" name="Line 29"/>
          <p:cNvSpPr/>
          <p:nvPr/>
        </p:nvSpPr>
        <p:spPr>
          <a:xfrm flipV="1">
            <a:off x="8543880" y="4927680"/>
            <a:ext cx="1800" cy="1371600"/>
          </a:xfrm>
          <a:prstGeom prst="line">
            <a:avLst/>
          </a:prstGeom>
          <a:ln w="936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92" name="Line 30"/>
          <p:cNvSpPr/>
          <p:nvPr/>
        </p:nvSpPr>
        <p:spPr>
          <a:xfrm flipH="1">
            <a:off x="930240" y="6299280"/>
            <a:ext cx="257040" cy="0"/>
          </a:xfrm>
          <a:prstGeom prst="line">
            <a:avLst/>
          </a:prstGeom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93" name="Line 31"/>
          <p:cNvSpPr/>
          <p:nvPr/>
        </p:nvSpPr>
        <p:spPr>
          <a:xfrm flipV="1">
            <a:off x="930240" y="5155920"/>
            <a:ext cx="0" cy="1143000"/>
          </a:xfrm>
          <a:prstGeom prst="line">
            <a:avLst/>
          </a:prstGeom>
          <a:ln w="936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94" name="Text Box 32"/>
          <p:cNvSpPr/>
          <p:nvPr/>
        </p:nvSpPr>
        <p:spPr>
          <a:xfrm>
            <a:off x="7331040" y="54936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Consensus Européen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95" name="Rectangle 33"/>
          <p:cNvSpPr/>
          <p:nvPr/>
        </p:nvSpPr>
        <p:spPr>
          <a:xfrm>
            <a:off x="1173240" y="6237360"/>
            <a:ext cx="17413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Indétectable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 Box 2"/>
          <p:cNvSpPr/>
          <p:nvPr/>
        </p:nvSpPr>
        <p:spPr>
          <a:xfrm>
            <a:off x="1903320" y="189000"/>
            <a:ext cx="5345280" cy="54108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Thyroïdectomie totale et ablation par </a:t>
            </a:r>
            <a:r>
              <a:rPr b="0" lang="fr-FR" sz="1600" spc="-1" strike="noStrike" baseline="30000">
                <a:solidFill>
                  <a:srgbClr val="fef3cf"/>
                </a:solidFill>
                <a:latin typeface="Arial"/>
              </a:rPr>
              <a:t>131</a:t>
            </a: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Scinti post-thérapeutique normale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97" name="Text Box 3"/>
          <p:cNvSpPr/>
          <p:nvPr/>
        </p:nvSpPr>
        <p:spPr>
          <a:xfrm>
            <a:off x="2712960" y="1108080"/>
            <a:ext cx="4014720" cy="304920"/>
          </a:xfrm>
          <a:prstGeom prst="rect">
            <a:avLst/>
          </a:prstGeom>
          <a:noFill/>
          <a:ln w="9360">
            <a:solidFill>
              <a:srgbClr val="e9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3 mois : ( LT4) TSH, Tg , T3l 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98" name="Line 4"/>
          <p:cNvSpPr/>
          <p:nvPr/>
        </p:nvSpPr>
        <p:spPr>
          <a:xfrm>
            <a:off x="4584600" y="716040"/>
            <a:ext cx="1800" cy="336600"/>
          </a:xfrm>
          <a:prstGeom prst="line">
            <a:avLst/>
          </a:prstGeom>
          <a:ln w="2844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999" name="Text Box 5"/>
          <p:cNvSpPr/>
          <p:nvPr/>
        </p:nvSpPr>
        <p:spPr>
          <a:xfrm>
            <a:off x="2373480" y="1878120"/>
            <a:ext cx="5117760" cy="3985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ef3cf"/>
                </a:solidFill>
                <a:latin typeface="Arial"/>
              </a:rPr>
              <a:t>6-12 mois: (LT4) Tg stimulée + écho cervicale</a:t>
            </a:r>
            <a:endParaRPr b="0" lang="en-US" sz="16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00" name="Line 6"/>
          <p:cNvSpPr/>
          <p:nvPr/>
        </p:nvSpPr>
        <p:spPr>
          <a:xfrm>
            <a:off x="4584600" y="1447920"/>
            <a:ext cx="1800" cy="336600"/>
          </a:xfrm>
          <a:prstGeom prst="line">
            <a:avLst/>
          </a:prstGeom>
          <a:ln w="28440">
            <a:solidFill>
              <a:srgbClr val="e9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1001" name="Text Box 7"/>
          <p:cNvSpPr/>
          <p:nvPr/>
        </p:nvSpPr>
        <p:spPr>
          <a:xfrm>
            <a:off x="7331040" y="54936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Consensus Européen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12800" y="2004480"/>
            <a:ext cx="895176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e9b400"/>
                </a:solidFill>
                <a:latin typeface="Arial"/>
              </a:rPr>
              <a:t>Merci de votre attention</a:t>
            </a:r>
            <a:endParaRPr b="1" lang="en-US" sz="3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9880" y="347400"/>
            <a:ext cx="9172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e9b400"/>
                </a:solidFill>
                <a:latin typeface="Arial"/>
              </a:rPr>
              <a:t>OBJECTIFS DU SUIVI</a:t>
            </a:r>
            <a:endParaRPr b="1" lang="en-US" sz="32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20480" y="2801520"/>
            <a:ext cx="9437400" cy="19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1520" indent="-37152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urveillance du traitement par la L-thyroxine</a:t>
            </a:r>
            <a:endParaRPr b="0" lang="en-US" sz="3200" spc="-1" strike="noStrike">
              <a:solidFill>
                <a:srgbClr val="fef3cf"/>
              </a:solidFill>
              <a:latin typeface="Arial"/>
            </a:endParaRPr>
          </a:p>
          <a:p>
            <a:pPr marL="371520" indent="-37152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pistage précoce des rechutes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8120" y="341280"/>
            <a:ext cx="975528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500" spc="-1" strike="noStrike">
                <a:solidFill>
                  <a:srgbClr val="e9b400"/>
                </a:solidFill>
                <a:latin typeface="Arial"/>
              </a:rPr>
              <a:t>RÉCIDIVES DES CANCERS THYROIDIENS DIFFERENCIES </a:t>
            </a:r>
            <a:endParaRPr b="1" lang="en-US" sz="2500" spc="-1" strike="noStrike">
              <a:solidFill>
                <a:srgbClr val="e9b400"/>
              </a:solidFill>
              <a:latin typeface="Arial"/>
            </a:endParaRPr>
          </a:p>
        </p:txBody>
      </p:sp>
      <p:graphicFrame>
        <p:nvGraphicFramePr>
          <p:cNvPr id="764" name="Object 3"/>
          <p:cNvGraphicFramePr/>
          <p:nvPr/>
        </p:nvGraphicFramePr>
        <p:xfrm>
          <a:off x="-19080" y="1665360"/>
          <a:ext cx="68580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665360"/>
                    <a:ext cx="68580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Text Box 4"/>
          <p:cNvSpPr/>
          <p:nvPr/>
        </p:nvSpPr>
        <p:spPr>
          <a:xfrm>
            <a:off x="5183280" y="6553080"/>
            <a:ext cx="510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ef3cf"/>
                </a:solidFill>
                <a:latin typeface="Arial"/>
              </a:rPr>
              <a:t>D’après Mazzaferri et al (2002)</a:t>
            </a:r>
            <a:endParaRPr b="0" lang="en-US" sz="1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687240" y="5572080"/>
            <a:ext cx="35244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9b400"/>
                </a:solidFill>
                <a:latin typeface="Arial"/>
              </a:rPr>
              <a:t>1528 patients 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9b400"/>
                </a:solidFill>
                <a:latin typeface="Arial"/>
              </a:rPr>
              <a:t>Suivi médian de 16,5 ans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4981680" y="5265720"/>
            <a:ext cx="53053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9b400"/>
                </a:solidFill>
                <a:latin typeface="Arial"/>
              </a:rPr>
              <a:t>71 % des récidives surviennent pendant les 5 premières années (Peltarri).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69" name="Text Box 7"/>
          <p:cNvSpPr/>
          <p:nvPr/>
        </p:nvSpPr>
        <p:spPr>
          <a:xfrm>
            <a:off x="4699080" y="1125360"/>
            <a:ext cx="5506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- 10 à 20% dont 2/3 de récidives loco-régionales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- parfois tardives: surveillance prolongée 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- Distinction difficile entre atteinte persistante et authentique récidive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f3cf"/>
                </a:solidFill>
                <a:latin typeface="Arial"/>
                <a:ea typeface="MS PGothic"/>
              </a:rPr>
              <a:t>- Différencier les atteintes cervicales isolées des multi-métastatiques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457200" y="228600"/>
            <a:ext cx="9372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1520" indent="-37152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6324480" y="2819520"/>
            <a:ext cx="3962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1528 patients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suivi médian 16,6 ans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rechutes : 359 (23,5%)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locales : 75%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à distance : 25%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grpSp>
        <p:nvGrpSpPr>
          <p:cNvPr id="772" name="Group 4"/>
          <p:cNvGrpSpPr/>
          <p:nvPr/>
        </p:nvGrpSpPr>
        <p:grpSpPr>
          <a:xfrm>
            <a:off x="76320" y="1219320"/>
            <a:ext cx="6171840" cy="4952520"/>
            <a:chOff x="76320" y="1219320"/>
            <a:chExt cx="6171840" cy="4952520"/>
          </a:xfrm>
        </p:grpSpPr>
        <p:pic>
          <p:nvPicPr>
            <p:cNvPr id="773" name="Picture 5" descr="~AUT0000"/>
            <p:cNvPicPr/>
            <p:nvPr/>
          </p:nvPicPr>
          <p:blipFill>
            <a:blip r:embed="rId1"/>
            <a:stretch/>
          </p:blipFill>
          <p:spPr>
            <a:xfrm>
              <a:off x="76320" y="1219320"/>
              <a:ext cx="6171840" cy="49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Rectangle 6"/>
            <p:cNvSpPr/>
            <p:nvPr/>
          </p:nvSpPr>
          <p:spPr>
            <a:xfrm>
              <a:off x="2827440" y="2802600"/>
              <a:ext cx="81000" cy="831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75" name="Rectangle 7"/>
            <p:cNvSpPr/>
            <p:nvPr/>
          </p:nvSpPr>
          <p:spPr>
            <a:xfrm>
              <a:off x="2841120" y="3101760"/>
              <a:ext cx="80640" cy="828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76" name="Rectangle 8"/>
            <p:cNvSpPr/>
            <p:nvPr/>
          </p:nvSpPr>
          <p:spPr>
            <a:xfrm>
              <a:off x="1728000" y="2052360"/>
              <a:ext cx="127800" cy="3459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77" name="Rectangle 9"/>
            <p:cNvSpPr/>
            <p:nvPr/>
          </p:nvSpPr>
          <p:spPr>
            <a:xfrm>
              <a:off x="1876320" y="4636800"/>
              <a:ext cx="94320" cy="8820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78" name="Rectangle 10"/>
            <p:cNvSpPr/>
            <p:nvPr/>
          </p:nvSpPr>
          <p:spPr>
            <a:xfrm>
              <a:off x="2274480" y="4179960"/>
              <a:ext cx="107640" cy="1330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79" name="Rectangle 11"/>
            <p:cNvSpPr/>
            <p:nvPr/>
          </p:nvSpPr>
          <p:spPr>
            <a:xfrm>
              <a:off x="2813760" y="5173560"/>
              <a:ext cx="114480" cy="341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80" name="Rectangle 12"/>
            <p:cNvSpPr/>
            <p:nvPr/>
          </p:nvSpPr>
          <p:spPr>
            <a:xfrm>
              <a:off x="3333240" y="5289840"/>
              <a:ext cx="114480" cy="232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81" name="Rectangle 13"/>
            <p:cNvSpPr/>
            <p:nvPr/>
          </p:nvSpPr>
          <p:spPr>
            <a:xfrm>
              <a:off x="3892680" y="5324400"/>
              <a:ext cx="114480" cy="1857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82" name="Rectangle 14"/>
            <p:cNvSpPr/>
            <p:nvPr/>
          </p:nvSpPr>
          <p:spPr>
            <a:xfrm>
              <a:off x="4419000" y="5465160"/>
              <a:ext cx="114480" cy="471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83" name="Rectangle 15"/>
            <p:cNvSpPr/>
            <p:nvPr/>
          </p:nvSpPr>
          <p:spPr>
            <a:xfrm>
              <a:off x="4978800" y="5477400"/>
              <a:ext cx="114480" cy="34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2402640" y="4949640"/>
              <a:ext cx="94320" cy="5778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85" name="Rectangle 17"/>
            <p:cNvSpPr/>
            <p:nvPr/>
          </p:nvSpPr>
          <p:spPr>
            <a:xfrm>
              <a:off x="2948760" y="5265360"/>
              <a:ext cx="94320" cy="26064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86" name="Rectangle 18"/>
            <p:cNvSpPr/>
            <p:nvPr/>
          </p:nvSpPr>
          <p:spPr>
            <a:xfrm>
              <a:off x="3481560" y="5432400"/>
              <a:ext cx="94320" cy="777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4027680" y="5435640"/>
              <a:ext cx="94320" cy="781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88" name="Rectangle 20"/>
            <p:cNvSpPr/>
            <p:nvPr/>
          </p:nvSpPr>
          <p:spPr>
            <a:xfrm>
              <a:off x="4554000" y="5310720"/>
              <a:ext cx="94320" cy="2044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  <p:sp>
          <p:nvSpPr>
            <p:cNvPr id="789" name="Rectangle 21"/>
            <p:cNvSpPr/>
            <p:nvPr/>
          </p:nvSpPr>
          <p:spPr>
            <a:xfrm>
              <a:off x="5106600" y="5345280"/>
              <a:ext cx="94320" cy="1648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b400"/>
                </a:solidFill>
                <a:latin typeface="Arial"/>
              </a:endParaRPr>
            </a:p>
          </p:txBody>
        </p:sp>
      </p:grpSp>
      <p:sp>
        <p:nvSpPr>
          <p:cNvPr id="790" name="Rectangle 22"/>
          <p:cNvSpPr/>
          <p:nvPr/>
        </p:nvSpPr>
        <p:spPr>
          <a:xfrm>
            <a:off x="152280" y="6348240"/>
            <a:ext cx="40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e9b400"/>
                </a:solidFill>
                <a:latin typeface="Arial"/>
              </a:rPr>
              <a:t>Mazzaferri, JCEM 2001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0" y="341280"/>
            <a:ext cx="102870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e9b400"/>
                </a:solidFill>
                <a:latin typeface="Arial"/>
                <a:ea typeface="MS PGothic"/>
              </a:rPr>
              <a:t>RÉCIDIVES DES CANCERS THYROIDIENS DIFFERENCIES </a:t>
            </a:r>
            <a:endParaRPr b="0" lang="en-US" sz="26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457200" y="228600"/>
            <a:ext cx="9372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1520" indent="-37152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212760" y="6246720"/>
            <a:ext cx="40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e9b400"/>
                </a:solidFill>
                <a:latin typeface="Arial"/>
              </a:rPr>
              <a:t>Leboulleux et al., JCEM 2007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843120" y="4842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e9b400"/>
                </a:solidFill>
                <a:latin typeface="Arial"/>
                <a:ea typeface="Arial"/>
              </a:rPr>
              <a:t>ENVAHISSEMENT GANGLIONNAIRE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95" name="Freeform 5"/>
          <p:cNvSpPr/>
          <p:nvPr/>
        </p:nvSpPr>
        <p:spPr>
          <a:xfrm>
            <a:off x="2200320" y="3608280"/>
            <a:ext cx="1770120" cy="1101960"/>
          </a:xfrm>
          <a:prstGeom prst="pie">
            <a:avLst/>
          </a:prstGeom>
          <a:solidFill>
            <a:srgbClr val="4d668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96" name="Freeform 6"/>
          <p:cNvSpPr/>
          <p:nvPr/>
        </p:nvSpPr>
        <p:spPr>
          <a:xfrm>
            <a:off x="2200320" y="3409920"/>
            <a:ext cx="1770120" cy="631800"/>
          </a:xfrm>
          <a:prstGeom prst="pie">
            <a:avLst/>
          </a:prstGeom>
          <a:solidFill>
            <a:srgbClr val="99cc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97" name="Freeform 7"/>
          <p:cNvSpPr/>
          <p:nvPr/>
        </p:nvSpPr>
        <p:spPr>
          <a:xfrm>
            <a:off x="3970440" y="3933720"/>
            <a:ext cx="2384280" cy="776520"/>
          </a:xfrm>
          <a:prstGeom prst="pie">
            <a:avLst/>
          </a:prstGeom>
          <a:solidFill>
            <a:srgbClr val="804d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98" name="Freeform 8"/>
          <p:cNvSpPr/>
          <p:nvPr/>
        </p:nvSpPr>
        <p:spPr>
          <a:xfrm>
            <a:off x="3970440" y="3409920"/>
            <a:ext cx="2384280" cy="631800"/>
          </a:xfrm>
          <a:prstGeom prst="pie">
            <a:avLst/>
          </a:prstGeom>
          <a:solidFill>
            <a:srgbClr val="ff99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799" name="Freeform 9"/>
          <p:cNvSpPr/>
          <p:nvPr/>
        </p:nvSpPr>
        <p:spPr>
          <a:xfrm>
            <a:off x="1550880" y="4041720"/>
            <a:ext cx="360" cy="668520"/>
          </a:xfrm>
          <a:prstGeom prst="pie">
            <a:avLst/>
          </a:prstGeom>
          <a:solidFill>
            <a:srgbClr val="80804d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00" name="Rectangle 10"/>
          <p:cNvSpPr/>
          <p:nvPr/>
        </p:nvSpPr>
        <p:spPr>
          <a:xfrm>
            <a:off x="1550880" y="4041720"/>
            <a:ext cx="2419560" cy="668520"/>
          </a:xfrm>
          <a:prstGeom prst="rect">
            <a:avLst/>
          </a:prstGeom>
          <a:solidFill>
            <a:srgbClr val="80804d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01" name="Freeform 11"/>
          <p:cNvSpPr/>
          <p:nvPr/>
        </p:nvSpPr>
        <p:spPr>
          <a:xfrm>
            <a:off x="1550880" y="3608280"/>
            <a:ext cx="2419560" cy="433440"/>
          </a:xfrm>
          <a:prstGeom prst="pie">
            <a:avLst/>
          </a:prstGeom>
          <a:solidFill>
            <a:srgbClr val="ffff99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02" name="Freeform 12"/>
          <p:cNvSpPr/>
          <p:nvPr/>
        </p:nvSpPr>
        <p:spPr>
          <a:xfrm>
            <a:off x="1550880" y="4041720"/>
            <a:ext cx="4840560" cy="1300320"/>
          </a:xfrm>
          <a:prstGeom prst="pie">
            <a:avLst/>
          </a:prstGeom>
          <a:solidFill>
            <a:srgbClr val="4d1a33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03" name="Freeform 13"/>
          <p:cNvSpPr/>
          <p:nvPr/>
        </p:nvSpPr>
        <p:spPr>
          <a:xfrm>
            <a:off x="1550880" y="3933720"/>
            <a:ext cx="4840560" cy="739800"/>
          </a:xfrm>
          <a:prstGeom prst="pie">
            <a:avLst/>
          </a:prstGeom>
          <a:solidFill>
            <a:srgbClr val="9933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04" name="Rectangle 14"/>
          <p:cNvSpPr/>
          <p:nvPr/>
        </p:nvSpPr>
        <p:spPr>
          <a:xfrm>
            <a:off x="935280" y="3373560"/>
            <a:ext cx="739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e9b400"/>
                </a:solidFill>
                <a:latin typeface="Arial"/>
              </a:rPr>
              <a:t>12%</a:t>
            </a:r>
            <a:endParaRPr b="0" lang="en-US" sz="29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05" name="Rectangle 15"/>
          <p:cNvSpPr/>
          <p:nvPr/>
        </p:nvSpPr>
        <p:spPr>
          <a:xfrm>
            <a:off x="2235240" y="2759040"/>
            <a:ext cx="739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e9b400"/>
                </a:solidFill>
                <a:latin typeface="Arial"/>
              </a:rPr>
              <a:t>13%</a:t>
            </a:r>
            <a:endParaRPr b="0" lang="en-US" sz="29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06" name="Rectangle 16"/>
          <p:cNvSpPr/>
          <p:nvPr/>
        </p:nvSpPr>
        <p:spPr>
          <a:xfrm>
            <a:off x="3988080" y="5505480"/>
            <a:ext cx="739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e9b400"/>
                </a:solidFill>
                <a:latin typeface="Arial"/>
              </a:rPr>
              <a:t>52%</a:t>
            </a:r>
            <a:endParaRPr b="0" lang="en-US" sz="29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07" name="Rectangle 17"/>
          <p:cNvSpPr/>
          <p:nvPr/>
        </p:nvSpPr>
        <p:spPr>
          <a:xfrm>
            <a:off x="5667480" y="2813040"/>
            <a:ext cx="739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900" spc="-1" strike="noStrike">
                <a:solidFill>
                  <a:srgbClr val="e9b400"/>
                </a:solidFill>
                <a:latin typeface="Arial"/>
              </a:rPr>
              <a:t>22%</a:t>
            </a:r>
            <a:endParaRPr b="0" lang="en-US" sz="29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08" name="Rectangle 18"/>
          <p:cNvSpPr/>
          <p:nvPr/>
        </p:nvSpPr>
        <p:spPr>
          <a:xfrm>
            <a:off x="7515360" y="2909880"/>
            <a:ext cx="126720" cy="127080"/>
          </a:xfrm>
          <a:prstGeom prst="rect">
            <a:avLst/>
          </a:prstGeom>
          <a:solidFill>
            <a:srgbClr val="ff99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09" name="Rectangle 19"/>
          <p:cNvSpPr/>
          <p:nvPr/>
        </p:nvSpPr>
        <p:spPr>
          <a:xfrm>
            <a:off x="7711560" y="2819520"/>
            <a:ext cx="136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e9b400"/>
                </a:solidFill>
                <a:latin typeface="Arial"/>
              </a:rPr>
              <a:t>Central seul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10" name="Rectangle 20"/>
          <p:cNvSpPr/>
          <p:nvPr/>
        </p:nvSpPr>
        <p:spPr>
          <a:xfrm>
            <a:off x="7515360" y="3675240"/>
            <a:ext cx="126720" cy="126720"/>
          </a:xfrm>
          <a:prstGeom prst="rect">
            <a:avLst/>
          </a:prstGeom>
          <a:solidFill>
            <a:srgbClr val="99336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11" name="Rectangle 21"/>
          <p:cNvSpPr/>
          <p:nvPr/>
        </p:nvSpPr>
        <p:spPr>
          <a:xfrm>
            <a:off x="7710480" y="3584520"/>
            <a:ext cx="226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e9b400"/>
                </a:solidFill>
                <a:latin typeface="Arial"/>
              </a:rPr>
              <a:t>Central et Ipsilatéral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12" name="Rectangle 22"/>
          <p:cNvSpPr/>
          <p:nvPr/>
        </p:nvSpPr>
        <p:spPr>
          <a:xfrm>
            <a:off x="7515360" y="4511520"/>
            <a:ext cx="126720" cy="127080"/>
          </a:xfrm>
          <a:prstGeom prst="rect">
            <a:avLst/>
          </a:prstGeom>
          <a:solidFill>
            <a:srgbClr val="ffff99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13" name="Rectangle 23"/>
          <p:cNvSpPr/>
          <p:nvPr/>
        </p:nvSpPr>
        <p:spPr>
          <a:xfrm>
            <a:off x="7711920" y="4406760"/>
            <a:ext cx="209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e9b400"/>
                </a:solidFill>
                <a:latin typeface="Arial"/>
              </a:rPr>
              <a:t>Central et Bilatéral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14" name="Rectangle 24"/>
          <p:cNvSpPr/>
          <p:nvPr/>
        </p:nvSpPr>
        <p:spPr>
          <a:xfrm>
            <a:off x="7515360" y="5334120"/>
            <a:ext cx="126720" cy="126720"/>
          </a:xfrm>
          <a:prstGeom prst="rect">
            <a:avLst/>
          </a:prstGeom>
          <a:solidFill>
            <a:srgbClr val="99cc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15" name="Rectangle 25"/>
          <p:cNvSpPr/>
          <p:nvPr/>
        </p:nvSpPr>
        <p:spPr>
          <a:xfrm>
            <a:off x="7711560" y="5243400"/>
            <a:ext cx="162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e9b400"/>
                </a:solidFill>
                <a:latin typeface="Arial"/>
              </a:rPr>
              <a:t>Ipsilatéral seul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16" name="Rectangle 26"/>
          <p:cNvSpPr/>
          <p:nvPr/>
        </p:nvSpPr>
        <p:spPr>
          <a:xfrm>
            <a:off x="233280" y="1692360"/>
            <a:ext cx="1005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N= 140 patients N1, 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e9b400"/>
                </a:solidFill>
                <a:latin typeface="Arial"/>
              </a:rPr>
              <a:t>traitement chirurgical systématique: VI bilatéral systématique, III-IV +/- II-V</a:t>
            </a:r>
            <a:endParaRPr b="0" lang="en-US" sz="20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457200" y="228600"/>
            <a:ext cx="9372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1520" indent="-37152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18" name="Rectangle 4"/>
          <p:cNvSpPr/>
          <p:nvPr/>
        </p:nvSpPr>
        <p:spPr>
          <a:xfrm>
            <a:off x="152280" y="6348240"/>
            <a:ext cx="40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e9b400"/>
                </a:solidFill>
                <a:latin typeface="Arial"/>
              </a:rPr>
              <a:t>Durante </a:t>
            </a:r>
            <a:r>
              <a:rPr b="0" i="1" lang="fr-FR" sz="1800" spc="-1" strike="noStrike">
                <a:solidFill>
                  <a:srgbClr val="e9b400"/>
                </a:solidFill>
                <a:latin typeface="Arial"/>
              </a:rPr>
              <a:t>et al.,</a:t>
            </a:r>
            <a:r>
              <a:rPr b="0" lang="fr-FR" sz="1800" spc="-1" strike="noStrike">
                <a:solidFill>
                  <a:srgbClr val="e9b400"/>
                </a:solidFill>
                <a:latin typeface="Arial"/>
              </a:rPr>
              <a:t> JCEM 2006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19" name="Text Box 6"/>
          <p:cNvSpPr/>
          <p:nvPr/>
        </p:nvSpPr>
        <p:spPr>
          <a:xfrm>
            <a:off x="193680" y="171144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9b400"/>
              </a:buClr>
              <a:buFont typeface="Symbol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e9b400"/>
                </a:solidFill>
                <a:latin typeface="Arial"/>
              </a:rPr>
              <a:t>444 patients M1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20" name="Freeform 10"/>
          <p:cNvSpPr/>
          <p:nvPr/>
        </p:nvSpPr>
        <p:spPr>
          <a:xfrm>
            <a:off x="3013200" y="3114720"/>
            <a:ext cx="763560" cy="1243080"/>
          </a:xfrm>
          <a:prstGeom prst="pie">
            <a:avLst/>
          </a:prstGeom>
          <a:solidFill>
            <a:srgbClr val="4d668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21" name="Freeform 11"/>
          <p:cNvSpPr/>
          <p:nvPr/>
        </p:nvSpPr>
        <p:spPr>
          <a:xfrm>
            <a:off x="2995560" y="3079800"/>
            <a:ext cx="781200" cy="620640"/>
          </a:xfrm>
          <a:prstGeom prst="pie">
            <a:avLst/>
          </a:prstGeom>
          <a:solidFill>
            <a:srgbClr val="99cc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22" name="Freeform 12"/>
          <p:cNvSpPr/>
          <p:nvPr/>
        </p:nvSpPr>
        <p:spPr>
          <a:xfrm>
            <a:off x="1415880" y="3665520"/>
            <a:ext cx="2360880" cy="692280"/>
          </a:xfrm>
          <a:prstGeom prst="pie">
            <a:avLst/>
          </a:prstGeom>
          <a:solidFill>
            <a:srgbClr val="80804d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23" name="Freeform 13"/>
          <p:cNvSpPr/>
          <p:nvPr/>
        </p:nvSpPr>
        <p:spPr>
          <a:xfrm>
            <a:off x="1398600" y="3114720"/>
            <a:ext cx="2378160" cy="585720"/>
          </a:xfrm>
          <a:prstGeom prst="pie">
            <a:avLst/>
          </a:prstGeom>
          <a:solidFill>
            <a:srgbClr val="ffff99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24" name="Freeform 14"/>
          <p:cNvSpPr/>
          <p:nvPr/>
        </p:nvSpPr>
        <p:spPr>
          <a:xfrm>
            <a:off x="1398600" y="3700440"/>
            <a:ext cx="2325600" cy="1279440"/>
          </a:xfrm>
          <a:prstGeom prst="pie">
            <a:avLst/>
          </a:prstGeom>
          <a:solidFill>
            <a:srgbClr val="4d1a33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25" name="Freeform 15"/>
          <p:cNvSpPr/>
          <p:nvPr/>
        </p:nvSpPr>
        <p:spPr>
          <a:xfrm>
            <a:off x="3741840" y="3700440"/>
            <a:ext cx="34920" cy="1279440"/>
          </a:xfrm>
          <a:prstGeom prst="pie">
            <a:avLst/>
          </a:prstGeom>
          <a:solidFill>
            <a:srgbClr val="4d1a33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26" name="Freeform 16"/>
          <p:cNvSpPr/>
          <p:nvPr/>
        </p:nvSpPr>
        <p:spPr>
          <a:xfrm>
            <a:off x="1398600" y="3648240"/>
            <a:ext cx="2378160" cy="674640"/>
          </a:xfrm>
          <a:prstGeom prst="pie">
            <a:avLst/>
          </a:prstGeom>
          <a:solidFill>
            <a:srgbClr val="9933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27" name="Freeform 17"/>
          <p:cNvSpPr/>
          <p:nvPr/>
        </p:nvSpPr>
        <p:spPr>
          <a:xfrm>
            <a:off x="3724200" y="3700440"/>
            <a:ext cx="2432160" cy="1279440"/>
          </a:xfrm>
          <a:prstGeom prst="pie">
            <a:avLst/>
          </a:prstGeom>
          <a:solidFill>
            <a:srgbClr val="804d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28" name="Freeform 18"/>
          <p:cNvSpPr/>
          <p:nvPr/>
        </p:nvSpPr>
        <p:spPr>
          <a:xfrm>
            <a:off x="3724200" y="3079800"/>
            <a:ext cx="2432160" cy="1243080"/>
          </a:xfrm>
          <a:prstGeom prst="pie">
            <a:avLst/>
          </a:prstGeom>
          <a:solidFill>
            <a:srgbClr val="ff99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29" name="Rectangle 19"/>
          <p:cNvSpPr/>
          <p:nvPr/>
        </p:nvSpPr>
        <p:spPr>
          <a:xfrm>
            <a:off x="1131840" y="2741760"/>
            <a:ext cx="71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18%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30" name="Rectangle 20"/>
          <p:cNvSpPr/>
          <p:nvPr/>
        </p:nvSpPr>
        <p:spPr>
          <a:xfrm>
            <a:off x="2943360" y="240336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31" name="Rectangle 21"/>
          <p:cNvSpPr/>
          <p:nvPr/>
        </p:nvSpPr>
        <p:spPr>
          <a:xfrm>
            <a:off x="1222200" y="4908600"/>
            <a:ext cx="71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26%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32" name="Rectangle 22"/>
          <p:cNvSpPr/>
          <p:nvPr/>
        </p:nvSpPr>
        <p:spPr>
          <a:xfrm>
            <a:off x="4637160" y="2552760"/>
            <a:ext cx="71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ef3cf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33" name="Rectangle 24"/>
          <p:cNvSpPr/>
          <p:nvPr/>
        </p:nvSpPr>
        <p:spPr>
          <a:xfrm>
            <a:off x="7385040" y="2781360"/>
            <a:ext cx="125280" cy="123840"/>
          </a:xfrm>
          <a:prstGeom prst="rect">
            <a:avLst/>
          </a:prstGeom>
          <a:solidFill>
            <a:srgbClr val="ff9900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34" name="Rectangle 25"/>
          <p:cNvSpPr/>
          <p:nvPr/>
        </p:nvSpPr>
        <p:spPr>
          <a:xfrm>
            <a:off x="7580160" y="2692440"/>
            <a:ext cx="203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ef3cf"/>
                </a:solidFill>
                <a:latin typeface="Arial"/>
              </a:rPr>
              <a:t>Poumon (223)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35" name="Rectangle 26"/>
          <p:cNvSpPr/>
          <p:nvPr/>
        </p:nvSpPr>
        <p:spPr>
          <a:xfrm>
            <a:off x="7385040" y="3382920"/>
            <a:ext cx="125280" cy="123840"/>
          </a:xfrm>
          <a:prstGeom prst="rect">
            <a:avLst/>
          </a:prstGeom>
          <a:solidFill>
            <a:srgbClr val="99336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36" name="Rectangle 27"/>
          <p:cNvSpPr/>
          <p:nvPr/>
        </p:nvSpPr>
        <p:spPr>
          <a:xfrm>
            <a:off x="7580160" y="3294000"/>
            <a:ext cx="237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ef3cf"/>
                </a:solidFill>
                <a:latin typeface="Arial"/>
              </a:rPr>
              <a:t>Os seul (115)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7385040" y="3898800"/>
            <a:ext cx="125280" cy="123840"/>
          </a:xfrm>
          <a:prstGeom prst="rect">
            <a:avLst/>
          </a:prstGeom>
          <a:solidFill>
            <a:srgbClr val="ffff99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38" name="Rectangle 29"/>
          <p:cNvSpPr/>
          <p:nvPr/>
        </p:nvSpPr>
        <p:spPr>
          <a:xfrm>
            <a:off x="7578720" y="3809880"/>
            <a:ext cx="25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ef3cf"/>
                </a:solidFill>
                <a:latin typeface="Arial"/>
              </a:rPr>
              <a:t>Poumon et Os (82)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39" name="Rectangle 30"/>
          <p:cNvSpPr/>
          <p:nvPr/>
        </p:nvSpPr>
        <p:spPr>
          <a:xfrm>
            <a:off x="7385040" y="4429080"/>
            <a:ext cx="125280" cy="123840"/>
          </a:xfrm>
          <a:prstGeom prst="rect">
            <a:avLst/>
          </a:prstGeom>
          <a:solidFill>
            <a:srgbClr val="99cc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40" name="Rectangle 31"/>
          <p:cNvSpPr/>
          <p:nvPr/>
        </p:nvSpPr>
        <p:spPr>
          <a:xfrm>
            <a:off x="7579080" y="4340160"/>
            <a:ext cx="156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ef3cf"/>
                </a:solidFill>
                <a:latin typeface="Arial"/>
              </a:rPr>
              <a:t>Autre (24) *</a:t>
            </a:r>
            <a:endParaRPr b="0" lang="en-US" sz="24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41" name="Rectangle 33"/>
          <p:cNvSpPr/>
          <p:nvPr/>
        </p:nvSpPr>
        <p:spPr>
          <a:xfrm>
            <a:off x="3841920" y="5869080"/>
            <a:ext cx="65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e9b400"/>
                </a:solidFill>
                <a:latin typeface="Arial"/>
              </a:rPr>
              <a:t>*Cerveau (10), foie (3), glandes salivaires (2), ophtalmo (1)</a:t>
            </a:r>
            <a:endParaRPr b="0" lang="en-US" sz="1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42" name="Text Box 4"/>
          <p:cNvSpPr/>
          <p:nvPr/>
        </p:nvSpPr>
        <p:spPr>
          <a:xfrm>
            <a:off x="843120" y="4842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e9b400"/>
                </a:solidFill>
                <a:latin typeface="Arial"/>
                <a:ea typeface="Arial"/>
              </a:rPr>
              <a:t>ENVAHISSEMENT A DISTANCE</a:t>
            </a:r>
            <a:endParaRPr b="0" lang="en-US" sz="2800" spc="-1" strike="noStrike">
              <a:solidFill>
                <a:srgbClr val="e9b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44600" y="285480"/>
            <a:ext cx="932184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e9b400"/>
                </a:solidFill>
                <a:latin typeface="Arial"/>
              </a:rPr>
              <a:t>PATIENTS À HAUT RISQUE DE RÉCIDIVE</a:t>
            </a:r>
            <a:endParaRPr b="1" lang="en-US" sz="2800" spc="-1" strike="noStrike">
              <a:solidFill>
                <a:srgbClr val="e9b4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101520" y="1625400"/>
            <a:ext cx="9855360" cy="52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46160" indent="-185760" algn="just">
              <a:spcBef>
                <a:spcPts val="601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Age (&lt; 16 ans, &gt; 45 ans)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spcBef>
                <a:spcPts val="601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Histologi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 algn="just">
              <a:spcBef>
                <a:spcPts val="550"/>
              </a:spcBef>
              <a:buClr>
                <a:srgbClr val="fef3cf"/>
              </a:buClr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fef3cf"/>
                </a:solidFill>
                <a:latin typeface="Arial"/>
              </a:rPr>
              <a:t>cancers papillaires et variants: sclérosants diffus, cellules hautes, trabéculaires solides</a:t>
            </a:r>
            <a:endParaRPr b="0" lang="en-US" sz="2200" spc="-1" strike="noStrike">
              <a:solidFill>
                <a:srgbClr val="fef3cf"/>
              </a:solidFill>
              <a:latin typeface="Arial"/>
            </a:endParaRPr>
          </a:p>
          <a:p>
            <a:pPr lvl="2" marL="1440000" indent="-115920" algn="just">
              <a:spcBef>
                <a:spcPts val="550"/>
              </a:spcBef>
              <a:buClr>
                <a:srgbClr val="fef3cf"/>
              </a:buClr>
              <a:buFont typeface="Wingdings" charset="2"/>
              <a:buChar char="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fef3cf"/>
                </a:solidFill>
                <a:latin typeface="Arial"/>
              </a:rPr>
              <a:t>Cancers folliculaires invasifs, peu différenciés, oncocytaires</a:t>
            </a:r>
            <a:endParaRPr b="0" lang="en-US" sz="22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spcBef>
                <a:spcPts val="601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Taille de la tumeur (&gt; 3-4 cm), multifocalité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spcBef>
                <a:spcPts val="601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Extension extra-thyroidienn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spcBef>
                <a:spcPts val="601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Envahissement ganglionnaire initial +++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  <a:p>
            <a:pPr lvl="1" marL="1046160" indent="-185760" algn="just">
              <a:spcBef>
                <a:spcPts val="601"/>
              </a:spcBef>
              <a:buClr>
                <a:srgbClr val="fef3cf"/>
              </a:buClr>
              <a:buSzPct val="75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ef3cf"/>
                </a:solidFill>
                <a:latin typeface="Arial"/>
              </a:rPr>
              <a:t>Etendue de la chirurgie</a:t>
            </a:r>
            <a:endParaRPr b="0" lang="en-US" sz="2400" spc="-1" strike="noStrike">
              <a:solidFill>
                <a:srgbClr val="fef3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3T14:56:41Z</dcterms:created>
  <dc:creator>DDS</dc:creator>
  <dc:description/>
  <dc:language>en-US</dc:language>
  <cp:lastModifiedBy>fmpm</cp:lastModifiedBy>
  <cp:lastPrinted>2001-05-25T15:34:54Z</cp:lastPrinted>
  <dcterms:modified xsi:type="dcterms:W3CDTF">2015-03-13T18:29:42Z</dcterms:modified>
  <cp:revision>518</cp:revision>
  <dc:subject/>
  <dc:title>13</dc:title>
</cp:coreProperties>
</file>