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CF0D-DDD3-4342-9BEE-270FE7ADC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EB14-8A35-4865-8759-9A7D757B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9E8F-30A4-4A05-BBD4-81A361F80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40B0-5B46-44F1-B72A-A2C297CA4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F45D-43D8-46C8-B767-8361F40F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714C-8E45-40EE-828A-D1BA7B00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663A-E60E-42A4-A112-F1F3600E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D940-959E-4C95-9B0D-E026EEB5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25DC-F8E1-42F5-896E-9BDFE0B8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8545-F765-4EEB-A1BA-B478B0ED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02CF-CA76-460A-872F-46C58ED5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40EE-3A47-4C9F-BE6D-DA486F7C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BD8A-A0A0-46DD-A366-BEDB486495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2276640"/>
            <a:ext cx="8062920" cy="2087280"/>
          </a:xfrm>
          <a:prstGeom prst="rect">
            <a:avLst/>
          </a:prstGeom>
          <a:noFill/>
          <a:ln w="2844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0000"/>
                </a:solidFill>
                <a:latin typeface="Cambria Math"/>
                <a:ea typeface="Cambria Math"/>
              </a:rPr>
              <a:t>Observation cliniqu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157360"/>
            <a:ext cx="896472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a1af8"/>
                </a:solidFill>
                <a:latin typeface="Cambria Math"/>
                <a:ea typeface="Cambria Math"/>
              </a:rPr>
              <a:t>Service ORL et chirurgie cervico-facia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a1af8"/>
                </a:solidFill>
                <a:latin typeface="Cambria Math"/>
                <a:ea typeface="Cambria Math"/>
              </a:rPr>
              <a:t>CHU Mohammed VI-Marrake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Object 32"/>
          <p:cNvGraphicFramePr/>
          <p:nvPr/>
        </p:nvGraphicFramePr>
        <p:xfrm>
          <a:off x="179280" y="333360"/>
          <a:ext cx="2808360" cy="12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Object 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33360"/>
                    <a:ext cx="2808360" cy="12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Image 1" descr="logo service"/>
          <p:cNvPicPr/>
          <p:nvPr/>
        </p:nvPicPr>
        <p:blipFill>
          <a:blip r:embed="rId3"/>
          <a:stretch/>
        </p:blipFill>
        <p:spPr>
          <a:xfrm>
            <a:off x="5580000" y="476280"/>
            <a:ext cx="3025800" cy="1008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9360">
            <a:solidFill>
              <a:srgbClr val="4a1af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Calibri"/>
              </a:rPr>
              <a:t>Suites postopératoi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Elles étaient simples avec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Hormonothérapie substitu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ntibiothérapie prophylact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- Ablation du drain à J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du P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- Reprise de l’alimentation orale et ablation de fil à J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14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u P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9360">
            <a:solidFill>
              <a:srgbClr val="4a1af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Calibri"/>
              </a:rPr>
              <a:t>Suites postopératoi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0" y="98064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écanulatoin à J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21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P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tude anatomopathologique de la pièce opératoi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dénome macrovésiculaire sur thyroïde ectopique basiling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- Nasofibroscopie après 2 mois était sans particulari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9" descr="C:\Users\NASSIM\Desktop\bureau\ORL\Travaux nassim ORL\articles nassim ORL\GE. BL\goitre ectopique\26012011198.jpg"/>
          <p:cNvPicPr/>
          <p:nvPr/>
        </p:nvPicPr>
        <p:blipFill>
          <a:blip r:embed="rId1"/>
          <a:stretch/>
        </p:blipFill>
        <p:spPr>
          <a:xfrm>
            <a:off x="2124000" y="3933720"/>
            <a:ext cx="4176720" cy="29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76720" y="-360"/>
            <a:ext cx="382608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Calibri"/>
              </a:rPr>
              <a:t>Commenta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’ectopie thyroïdienne = localisation du tissu thyroïdienne hors de sa loge naturel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éfaut de migration du bourgeon embryonnaire thyroïdien depuis «le foramen caecum» basilinguale jusqu’au sa situation définitive basicervic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ZoneTexte 3"/>
          <p:cNvSpPr/>
          <p:nvPr/>
        </p:nvSpPr>
        <p:spPr>
          <a:xfrm>
            <a:off x="0" y="6922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 u="sng">
                <a:solidFill>
                  <a:srgbClr val="4a1af8"/>
                </a:solidFill>
                <a:uFillTx/>
                <a:latin typeface="Arial"/>
              </a:rPr>
              <a:t>Définition / Ethiopathogé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07120" y="-360"/>
            <a:ext cx="38368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Calibri"/>
              </a:rPr>
              <a:t>Commenta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-360" y="2060640"/>
            <a:ext cx="9325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uvent une femme (sex-ratio = 4 F/ 1 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ge moyen = 40 a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eux pic de fréquence: 12 ans et 50 a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 localisation basilinguale est la plus fréquente (75-90%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dénome vésiculaire sur thyroïde ectopique basilinguale est une situation pathologique très r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ZoneTexte 3"/>
          <p:cNvSpPr/>
          <p:nvPr/>
        </p:nvSpPr>
        <p:spPr>
          <a:xfrm>
            <a:off x="826920" y="692280"/>
            <a:ext cx="4535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 u="sng">
                <a:solidFill>
                  <a:srgbClr val="4a1af8"/>
                </a:solidFill>
                <a:uFillTx/>
                <a:latin typeface="Arial"/>
              </a:rPr>
              <a:t>Epidémiolo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96000" y="0"/>
            <a:ext cx="3348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Calibri"/>
              </a:rPr>
              <a:t>Commentai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907920"/>
            <a:ext cx="91440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’ectopie thyroïdienne peut être asymptomatiqu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arfois un syndrome tumoral avec des signes obstructifs des VAD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Hypothyroïdie clinique et/ou biologique: rarement observée, surtout si ectopie de petite taille,puberté, ménopause, grossesse, accouchement ou infection OR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’examen ORL trouve souvent une masse basilinguale arrondie bien limitée, rouge-rose, parfois bleuté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ZoneTexte 3"/>
          <p:cNvSpPr/>
          <p:nvPr/>
        </p:nvSpPr>
        <p:spPr>
          <a:xfrm>
            <a:off x="1763640" y="26028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 u="sng">
                <a:solidFill>
                  <a:srgbClr val="4a1af8"/>
                </a:solidFill>
                <a:uFillTx/>
                <a:latin typeface="Arial"/>
              </a:rPr>
              <a:t>Diagno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300720" y="259920"/>
            <a:ext cx="262728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Commenta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0" y="1052280"/>
            <a:ext cx="91440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osage systématique de la TSH-us et des hormones thyroïdiennes (T3, T4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Dépiste des hypothyroïd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Oriente vers son origine périphériq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chographie cervical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Simple et peu couteu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Diagnostic: loge thyroïdienne vide + masse tissulaire basilingual, d’échostructure semblable à celle d’un parenchyme thyroïdien norm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Rechercher des nodules ou signes de suspicion de malignité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ZoneTexte 5"/>
          <p:cNvSpPr/>
          <p:nvPr/>
        </p:nvSpPr>
        <p:spPr>
          <a:xfrm>
            <a:off x="1476360" y="333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 u="sng">
                <a:solidFill>
                  <a:srgbClr val="4a1af8"/>
                </a:solidFill>
                <a:uFillTx/>
                <a:latin typeface="Arial"/>
              </a:rPr>
              <a:t>Diagno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75280" y="-360"/>
            <a:ext cx="226836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Commentai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0" y="112500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cintigraphie  (Technétium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 99m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u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123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ou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131)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- La moyenne de choix pour le diagnostic positi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- Absence de fixation du radiotraceur au niveau de la loge thyroïdienne avec forte captation basiling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- TDM/IRM: non spécifiques pour le diagnostic positif, surtout intéressantes pour le diagnostic topographique et le bilan d’extension en cas de maligni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oneTexte 3"/>
          <p:cNvSpPr/>
          <p:nvPr/>
        </p:nvSpPr>
        <p:spPr>
          <a:xfrm>
            <a:off x="755640" y="476280"/>
            <a:ext cx="29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 u="sng">
                <a:solidFill>
                  <a:srgbClr val="4a1af8"/>
                </a:solidFill>
                <a:uFillTx/>
                <a:latin typeface="Arial"/>
              </a:rPr>
              <a:t>Diagno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372360" y="-171720"/>
            <a:ext cx="2541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Commenta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1341360"/>
            <a:ext cx="93250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ccidents hémorragiques liés à des traumatismes lors de la dégluti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bstruction quasi-totale des voies respiratoires supérieures avec un risque d’asphyxi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égénérescence maligne: exceptionnelle (1%), souvent un carcinome papillai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ZoneTexte 3"/>
          <p:cNvSpPr/>
          <p:nvPr/>
        </p:nvSpPr>
        <p:spPr>
          <a:xfrm>
            <a:off x="900000" y="26028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 u="sng">
                <a:solidFill>
                  <a:srgbClr val="4a1af8"/>
                </a:solidFill>
                <a:uFillTx/>
                <a:latin typeface="Arial"/>
              </a:rPr>
              <a:t>Evolution spontan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965920" y="-243360"/>
            <a:ext cx="317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Commenta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Hormonothérapie substitutive à vie: si hypothyroïdie(L-thyroxine) avec surveillance cliniques et biologiques (TSH-us, T3 et T4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xérèse chirurgicale si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- Goitre sur thyroïde ectop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- Risque hémorragiqu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- Masse symptomatique (dysphagie, odynophagie, dyspné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- Suspicion de malignité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ZoneTexte 4"/>
          <p:cNvSpPr/>
          <p:nvPr/>
        </p:nvSpPr>
        <p:spPr>
          <a:xfrm>
            <a:off x="0" y="333360"/>
            <a:ext cx="554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 u="sng">
                <a:solidFill>
                  <a:srgbClr val="4a1af8"/>
                </a:solidFill>
                <a:uFillTx/>
                <a:latin typeface="Arial"/>
              </a:rPr>
              <a:t>Prise en charge thérapeutique 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27280" y="-171360"/>
            <a:ext cx="2916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Commenta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0" y="1196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a voie d’abord est fonction du volume de la masse ectopique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- Endobuccale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- Cervicale sus-hyoïdien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- Combinaison de ces deux voies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Trachéotomie provisoire préalable, si risque de ptose, d’hématome, d’hémorragie basilinguale</a:t>
            </a:r>
            <a:r>
              <a:rPr b="0" lang="fr-FR" sz="36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 Risque de détresse respiratoire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oneTexte 3"/>
          <p:cNvSpPr/>
          <p:nvPr/>
        </p:nvSpPr>
        <p:spPr>
          <a:xfrm>
            <a:off x="250920" y="404640"/>
            <a:ext cx="604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 u="sng">
                <a:solidFill>
                  <a:srgbClr val="4a1af8"/>
                </a:solidFill>
                <a:uFillTx/>
                <a:latin typeface="Arial"/>
              </a:rPr>
              <a:t>Prise en charge thérapeutique 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0" y="2852280"/>
            <a:ext cx="91440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e fille de 13 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uivie pour un RAA sous chimioprophylax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oneTexte 3"/>
          <p:cNvSpPr/>
          <p:nvPr/>
        </p:nvSpPr>
        <p:spPr>
          <a:xfrm>
            <a:off x="1692360" y="907920"/>
            <a:ext cx="5616360" cy="764280"/>
          </a:xfrm>
          <a:prstGeom prst="rect">
            <a:avLst/>
          </a:prstGeom>
          <a:noFill/>
          <a:ln w="9360">
            <a:solidFill>
              <a:srgbClr val="4a1a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Calibri"/>
              </a:rPr>
              <a:t>Identité/Antécé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6192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 u="sng">
                <a:solidFill>
                  <a:srgbClr val="4a1af8"/>
                </a:solidFill>
                <a:uFillTx/>
                <a:latin typeface="Calibri"/>
              </a:rPr>
              <a:t>Prise en charge thérapeutique :  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0" y="1268280"/>
            <a:ext cx="9144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Sonde nasogastrique d’alimentation pendant 10 jours si abord endobuccal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e traitement hormonal substitutif postopératoire doit être de principe, car dans 70% des cas le tissu thyroïdien ectopique représentent le seul parenchyme thyroïdien fonctionnel chez le patient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82760" indent="-185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82760" indent="-1857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oneTexte 3"/>
          <p:cNvSpPr/>
          <p:nvPr/>
        </p:nvSpPr>
        <p:spPr>
          <a:xfrm>
            <a:off x="6156360" y="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Comment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9360">
            <a:solidFill>
              <a:srgbClr val="4a1af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1484280"/>
            <a:ext cx="91440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ituation très r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uvent basilingua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ymptomatologie 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 chirurgie n’est pas toujours indiqué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863640"/>
          </a:xfrm>
          <a:prstGeom prst="rect">
            <a:avLst/>
          </a:prstGeom>
          <a:noFill/>
          <a:ln w="9360">
            <a:solidFill>
              <a:srgbClr val="4a1af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Calibri"/>
              </a:rPr>
              <a:t>Cliniq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1412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HDM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: depuis 8 mo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ymptomatologie s’aggravant progressivemen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- Gène à la déglutition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- Nasonne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- Episodes de dyspnée et de ronflement nocturn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uméfaction oropharyngée constatée par la famil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bsence de fièvre ni de signes de dysthyroïd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9360">
            <a:solidFill>
              <a:srgbClr val="4a1af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Calibri"/>
              </a:rPr>
              <a:t>Cliniq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836280"/>
            <a:ext cx="93963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Examen physiqu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- Bon état génér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- Masse basilinguale arrondie, rougeâtre, bien limitée, de surface lisse, de consistance ferme et bombe dans l’oropharynx sans signes inflammatoires ni ADP cervic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Image 1" descr="14122010036"/>
          <p:cNvPicPr/>
          <p:nvPr/>
        </p:nvPicPr>
        <p:blipFill>
          <a:blip r:embed="rId1"/>
          <a:stretch/>
        </p:blipFill>
        <p:spPr>
          <a:xfrm>
            <a:off x="2627280" y="3789360"/>
            <a:ext cx="4459320" cy="28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81000"/>
          </a:xfrm>
          <a:prstGeom prst="rect">
            <a:avLst/>
          </a:prstGeom>
          <a:noFill/>
          <a:ln w="9360">
            <a:solidFill>
              <a:srgbClr val="4a1af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Calibri"/>
              </a:rPr>
              <a:t>Bilan para-cliniq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-360" y="1412640"/>
            <a:ext cx="622764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Echographie cervica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- Loge thyroïdienne v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- Formation tissulaire basilinguale, de 3 cm de diamètre, bien limitée, d’échostructure semblable à celle du parenchyme thyroïdien norma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6156360" y="2565360"/>
            <a:ext cx="2987640" cy="302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49240"/>
          </a:xfrm>
          <a:prstGeom prst="rect">
            <a:avLst/>
          </a:prstGeom>
          <a:noFill/>
          <a:ln w="9360">
            <a:solidFill>
              <a:srgbClr val="4a1af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Calibri"/>
              </a:rPr>
              <a:t>Bilan para-cliniq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1052280"/>
            <a:ext cx="91440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DM cervical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-  Masse spontanément hyperdense, se rehaussant discrètement par le produit de contrast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- Absence d’adénopathies cervical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Image 4" descr=""/>
          <p:cNvPicPr/>
          <p:nvPr/>
        </p:nvPicPr>
        <p:blipFill>
          <a:blip r:embed="rId1"/>
          <a:stretch/>
        </p:blipFill>
        <p:spPr>
          <a:xfrm>
            <a:off x="324000" y="4149720"/>
            <a:ext cx="2663640" cy="25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" name="Picture 6" descr=""/>
          <p:cNvPicPr/>
          <p:nvPr/>
        </p:nvPicPr>
        <p:blipFill>
          <a:blip r:embed="rId2"/>
          <a:stretch/>
        </p:blipFill>
        <p:spPr>
          <a:xfrm>
            <a:off x="3203640" y="4149720"/>
            <a:ext cx="2795400" cy="254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0" name="Picture 11" descr=""/>
          <p:cNvPicPr/>
          <p:nvPr/>
        </p:nvPicPr>
        <p:blipFill>
          <a:blip r:embed="rId3"/>
          <a:stretch/>
        </p:blipFill>
        <p:spPr>
          <a:xfrm>
            <a:off x="6156360" y="4149720"/>
            <a:ext cx="2808360" cy="2519280"/>
          </a:xfrm>
          <a:prstGeom prst="rect">
            <a:avLst/>
          </a:prstGeom>
          <a:ln w="0">
            <a:noFill/>
          </a:ln>
        </p:spPr>
      </p:pic>
      <p:cxnSp>
        <p:nvCxnSpPr>
          <p:cNvPr id="61" name="Connecteur droit avec flèche 15"/>
          <p:cNvCxnSpPr/>
          <p:nvPr/>
        </p:nvCxnSpPr>
        <p:spPr>
          <a:xfrm>
            <a:off x="4140000" y="5805000"/>
            <a:ext cx="361080" cy="72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2" name="Connecteur droit avec flèche 18"/>
          <p:cNvCxnSpPr/>
          <p:nvPr/>
        </p:nvCxnSpPr>
        <p:spPr>
          <a:xfrm>
            <a:off x="6948000" y="5373720"/>
            <a:ext cx="288360" cy="2167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3" name="Connecteur droit avec flèche 20"/>
          <p:cNvCxnSpPr/>
          <p:nvPr/>
        </p:nvCxnSpPr>
        <p:spPr>
          <a:xfrm>
            <a:off x="1618920" y="4508280"/>
            <a:ext cx="1080" cy="36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129440" cy="720720"/>
          </a:xfrm>
          <a:prstGeom prst="rect">
            <a:avLst/>
          </a:prstGeom>
          <a:noFill/>
          <a:ln w="9360">
            <a:solidFill>
              <a:srgbClr val="4a1af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Calibri"/>
              </a:rPr>
              <a:t>Bilan para-cliniq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765000"/>
            <a:ext cx="914400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Scintigraphie thyroïdienne au Technétium 99m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- Absence de fixation au niveau de la loge thyroïdien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- Plage de captation intense du traceur se projetant sur la base de la langue 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403280" y="4076640"/>
            <a:ext cx="2881440" cy="278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5003640" y="4076640"/>
            <a:ext cx="2762280" cy="278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8" name="ZoneTexte 5"/>
          <p:cNvSpPr/>
          <p:nvPr/>
        </p:nvSpPr>
        <p:spPr>
          <a:xfrm>
            <a:off x="0" y="3429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Wingdings 3"/>
                <a:ea typeface="Wingdings 3"/>
              </a:rPr>
              <a:t></a:t>
            </a: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Diagnostic: thyroïde ectopique basilingu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4a1af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Calibri"/>
              </a:rPr>
              <a:t>Bilan para-cliniq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osage des hormones thyroïdiennes: norm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aux de TSH-us = 4,21 microUI/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aux de T4 libre = 9,87 pmol/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65000"/>
          </a:xfrm>
          <a:prstGeom prst="rect">
            <a:avLst/>
          </a:prstGeom>
          <a:noFill/>
          <a:ln w="9360">
            <a:solidFill>
              <a:srgbClr val="4a1af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Calibri"/>
              </a:rPr>
              <a:t>Prise en charge chirurgic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0" y="1267920"/>
            <a:ext cx="651672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La décision chirurgicale a été prise devant</a:t>
            </a: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 le caractère symptomatique de cette ectopie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Image 7" descr="Photo0180"/>
          <p:cNvPicPr/>
          <p:nvPr/>
        </p:nvPicPr>
        <p:blipFill>
          <a:blip r:embed="rId1"/>
          <a:stretch/>
        </p:blipFill>
        <p:spPr>
          <a:xfrm>
            <a:off x="6227640" y="1341360"/>
            <a:ext cx="2700360" cy="28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4" name="ZoneTexte 4"/>
          <p:cNvSpPr/>
          <p:nvPr/>
        </p:nvSpPr>
        <p:spPr>
          <a:xfrm>
            <a:off x="0" y="2997360"/>
            <a:ext cx="6588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rachéotom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onde nasogastrique d’ali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G + Ventilation par la trachéotom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érèse chirurgicale totale de la masse par voie combinée  endobuccale et cervical sus-hyoïdien + ablation de l’os hyoï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rain aspirat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1T21:50:36Z</dcterms:created>
  <dc:creator>NASSIM</dc:creator>
  <dc:description/>
  <dc:language>en-US</dc:language>
  <cp:lastModifiedBy>NASSIM</cp:lastModifiedBy>
  <dcterms:modified xsi:type="dcterms:W3CDTF">2014-04-16T18:40:26Z</dcterms:modified>
  <cp:revision>153</cp:revision>
  <dc:subject/>
  <dc:title>Observation clinique</dc:title>
</cp:coreProperties>
</file>