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7833-7612-4560-AAF1-6EFF40FA99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F906-0CBC-4223-8AC1-D3944437BA6F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20A-85EE-49A9-9095-168B602C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25D2-976A-4458-8601-DD6152BC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54AA-7732-44A3-9504-CF55FD85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E71-5499-4A52-B600-E586B974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2C7B-6E06-4C1A-A243-A3BBCC98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3193-C59E-49E5-A055-A072671D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E1A2-99D0-4C17-9B73-0B47FB20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4F42-012E-43CF-8BBF-D8C23E67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84F9-E8E9-46B8-99BC-A7398D48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5F11-C346-4597-BF78-73CBFF0C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C1E0-6AA7-41BD-8BD3-1E5BA690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D6C-B2CC-49F7-AD46-BA7C689C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7D82-7928-4627-BBCA-56EB6301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7C6F-B546-4CA0-95A3-02E29F9B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2199-EEBB-4492-8369-3F0BE393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E8A3-A480-48C5-9157-B22C7203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6D26-C12F-473F-A893-1FA4CD8F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70A-03FF-4DD4-B765-71500096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7D13-688D-4E28-9A72-1D0B6FE7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90AB-81B6-4DE7-818B-86496F4A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0340-3683-45A0-BAF0-6319DE96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3994-3223-483D-9BF1-99275326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CD9-69C5-4B34-BBF4-356D4DD8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57A-B060-4903-A928-D6493061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1581-6B6F-455E-AAFC-6DF89BA1104C}" type="slidenum">
              <a:rPr b="0" lang="fr-F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3BB9-5AC1-4CE3-981C-2A14C5C7986B}" type="slidenum">
              <a:rPr b="0" lang="fr-F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re 1" descr=""/>
          <p:cNvPicPr/>
          <p:nvPr/>
        </p:nvPicPr>
        <p:blipFill>
          <a:blip r:embed="rId1"/>
          <a:stretch/>
        </p:blipFill>
        <p:spPr>
          <a:xfrm>
            <a:off x="414360" y="1042920"/>
            <a:ext cx="8242200" cy="23655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Book Antiqua"/>
              </a:rPr>
              <a:t>Dr S. EL ISSAMI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Book Antiqua"/>
              </a:rPr>
              <a:t>Médecin spécialist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Book Antiqua"/>
              </a:rPr>
              <a:t>Service de médecine nucléair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Book Antiqua"/>
              </a:rPr>
              <a:t>CHU Mohamed VI Marrakech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28760" y="214200"/>
            <a:ext cx="822960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Radiothérapie externe ± cimentoplastie?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Surveillance, contrôle de la Tg et des anticorps anti-Tg à quelques mois d’intervalle avant RTH?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Une 6</a:t>
            </a:r>
            <a:r>
              <a:rPr b="0" lang="fr-FR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ème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 cure d’irathérapie à l’iode  131?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(dose cumulée à 750 mCi (20GBq)/ Risque de Kc radio-induit)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TEP au FDG: si positif →→ CTH?? plutôt thérapie ciblée!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Principale indication: ascension de la Tg + CBI au BC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Flèche courbée vers la droite 3"/>
          <p:cNvSpPr/>
          <p:nvPr/>
        </p:nvSpPr>
        <p:spPr>
          <a:xfrm>
            <a:off x="357120" y="4500720"/>
            <a:ext cx="588960" cy="500040"/>
          </a:xfrm>
          <a:custGeom>
            <a:avLst/>
            <a:gdLst>
              <a:gd name="textAreaLeft" fmla="*/ 78840 w 588960"/>
              <a:gd name="textAreaRight" fmla="*/ 510120 w 588960"/>
              <a:gd name="textAreaTop" fmla="*/ 78120 h 500040"/>
              <a:gd name="textAreaBottom" fmla="*/ 35964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311811"/>
                <a:lnTo>
                  <a:pt x="17015" y="21446"/>
                </a:lnTo>
                <a:lnTo>
                  <a:pt x="21600" y="16200"/>
                </a:lnTo>
                <a:lnTo>
                  <a:pt x="17015" y="10646"/>
                </a:lnTo>
                <a:lnTo>
                  <a:pt x="17015" y="13346"/>
                </a:lnTo>
                <a:arcTo wR="21600" hR="6750" stAng="7488189" swAng="284582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re 1" descr=""/>
          <p:cNvPicPr/>
          <p:nvPr/>
        </p:nvPicPr>
        <p:blipFill>
          <a:blip r:embed="rId1"/>
          <a:stretch/>
        </p:blipFill>
        <p:spPr>
          <a:xfrm>
            <a:off x="463680" y="2487600"/>
            <a:ext cx="82422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re 1" descr=""/>
          <p:cNvPicPr/>
          <p:nvPr/>
        </p:nvPicPr>
        <p:blipFill>
          <a:blip r:embed="rId1"/>
          <a:stretch/>
        </p:blipFill>
        <p:spPr>
          <a:xfrm>
            <a:off x="53640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39640" y="1268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 algn="just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Femme,   55 a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 algn="just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ATCD: RA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 algn="just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Carcinome papillaire thyroïdien multifocal à différentiation vésiculaire non encapsulé  + composante insulaire; métastatique au niveau osseux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 algn="just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Maladie révélée par une masse jugale droi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 algn="just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r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Arial"/>
                <a:ea typeface="Arial"/>
              </a:rPr>
              <a:t>Traitement chirurgical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Hémi-mandibulectomie droi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Thyroïdectomie totale + curage ganglionnaire central et ipsilatéral  (mars 2009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Arial"/>
                <a:ea typeface="Arial"/>
              </a:rPr>
              <a:t>Cinq cures d’irathérapie  à 150 mCi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03280" y="1844640"/>
          <a:ext cx="6096240" cy="41036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C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bb1c9"/>
                      </a:solidFill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6bb1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          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Tg  en défrein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bb1c9"/>
                      </a:solidFill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6bb1c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r>
                        <a:rPr b="0" lang="fr-FR" sz="18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ère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cure:  le 23/11/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bb1c9"/>
                      </a:solidFill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         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˃ 450 ng/ 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bb1c9"/>
                      </a:solidFill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ebf2f5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</a:t>
                      </a:r>
                      <a:r>
                        <a:rPr b="0" lang="fr-FR" sz="18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ème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cure: le 05/07/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bb1c9"/>
                      </a:solidFill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709 ng/ 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bb1c9"/>
                      </a:solidFill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</a:t>
                      </a:r>
                      <a:r>
                        <a:rPr b="0" lang="fr-FR" sz="18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ème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cure: le 02/05/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bb1c9"/>
                      </a:solidFill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17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μ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/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bb1c9"/>
                      </a:solidFill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ebf2f5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</a:t>
                      </a:r>
                      <a:r>
                        <a:rPr b="0" lang="fr-FR" sz="18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ème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cure: le 18/06/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bb1c9"/>
                      </a:solidFill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bb1c9"/>
                      </a:solidFill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</a:t>
                      </a:r>
                      <a:r>
                        <a:rPr b="0" lang="fr-FR" sz="18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ème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cure: le 06/05/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bb1c9"/>
                      </a:solidFill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 ng/ m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bb1c9"/>
                      </a:solidFill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ebf2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r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20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4500720" cy="4708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5143680" y="1571760"/>
            <a:ext cx="3843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re 1" descr=""/>
          <p:cNvPicPr/>
          <p:nvPr/>
        </p:nvPicPr>
        <p:blipFill>
          <a:blip r:embed="rId1"/>
          <a:stretch/>
        </p:blipFill>
        <p:spPr>
          <a:xfrm>
            <a:off x="450720" y="0"/>
            <a:ext cx="8242560" cy="142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714240" y="1428840"/>
            <a:ext cx="7429680" cy="52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r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Lésions ostéolytiques de l’arc postérieur de la </a:t>
            </a:r>
            <a:r>
              <a:rPr b="0" lang="fr-FR" sz="2800" spc="-1" strike="noStrike">
                <a:solidFill>
                  <a:srgbClr val="c00000"/>
                </a:solidFill>
                <a:latin typeface="Book Antiqua"/>
              </a:rPr>
              <a:t>4</a:t>
            </a:r>
            <a:r>
              <a:rPr b="0" lang="fr-FR" sz="2800" spc="-1" strike="noStrike" baseline="30000">
                <a:solidFill>
                  <a:srgbClr val="c00000"/>
                </a:solidFill>
                <a:latin typeface="Book Antiqua"/>
              </a:rPr>
              <a:t>ème</a:t>
            </a:r>
            <a:r>
              <a:rPr b="0" lang="fr-FR" sz="2800" spc="-1" strike="noStrike">
                <a:solidFill>
                  <a:srgbClr val="c00000"/>
                </a:solidFill>
                <a:latin typeface="Book Antiqua"/>
              </a:rPr>
              <a:t> côte droite  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et de l’apophyse transverse  droite de </a:t>
            </a:r>
            <a:r>
              <a:rPr b="0" lang="fr-FR" sz="2800" spc="-1" strike="noStrike">
                <a:solidFill>
                  <a:srgbClr val="c00000"/>
                </a:solidFill>
                <a:latin typeface="Book Antiqua"/>
              </a:rPr>
              <a:t>D3 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avec rupture de la corticale par endroi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Lésion ostéolytique entourée d’une ostéocondensation de l’aileron droit du </a:t>
            </a:r>
            <a:r>
              <a:rPr b="0" lang="fr-FR" sz="2800" spc="-1" strike="noStrike">
                <a:solidFill>
                  <a:srgbClr val="c00000"/>
                </a:solidFill>
                <a:latin typeface="Book Antiqua"/>
              </a:rPr>
              <a:t>sacrum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 responsable d’une lyse des parois des trous sacré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re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1643040" y="1214280"/>
          <a:ext cx="6095880" cy="53485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Tg en défrein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bb1c9"/>
                      </a:solidFill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6bb1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D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bb1c9"/>
                      </a:solidFill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6bb1c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˃ 450 ng/ 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bb1c9"/>
                      </a:solidFill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3/11/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bb1c9"/>
                      </a:solidFill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ebf2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709 ng/ 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bb1c9"/>
                      </a:solidFill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5/07/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bb1c9"/>
                      </a:solidFill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17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μ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/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bb1c9"/>
                      </a:solidFill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2/05/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bb1c9"/>
                      </a:solidFill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ebf2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ng/ 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bb1c9"/>
                      </a:solidFill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6/05/20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bb1c9"/>
                      </a:solidFill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 ng/ml /LT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bb1c9"/>
                      </a:solidFill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8/10/20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bb1c9"/>
                      </a:solidFill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ebf2f5"/>
                    </a:solidFill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8 ng/ml/LT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orps anti-Tg: 37,4 UI/ml    (VR ˂ 115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bb1c9"/>
                      </a:solidFill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1/01/20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bb1c9"/>
                      </a:solidFill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re 1" descr=""/>
          <p:cNvPicPr/>
          <p:nvPr/>
        </p:nvPicPr>
        <p:blipFill>
          <a:blip r:embed="rId1"/>
          <a:stretch/>
        </p:blipFill>
        <p:spPr>
          <a:xfrm>
            <a:off x="268200" y="2468520"/>
            <a:ext cx="87235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23:15:23Z</dcterms:created>
  <dc:creator>MEYREM</dc:creator>
  <dc:description/>
  <dc:language>en-US</dc:language>
  <cp:lastModifiedBy>ADMIN</cp:lastModifiedBy>
  <dcterms:modified xsi:type="dcterms:W3CDTF">2014-02-14T19:30:19Z</dcterms:modified>
  <cp:revision>38</cp:revision>
  <dc:subject/>
  <dc:title>Cas clinique de carcinologie thyroïdienne</dc:title>
</cp:coreProperties>
</file>