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4BA-8B60-4ACC-A713-DCA17495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D95-4763-4AF1-A7A7-5CA6C8CD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A7D-BAF8-4622-9FDE-005E1C61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0BB-43DA-4403-9F18-B90D0837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5F9-D734-45C2-BDF4-020B624D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B3C-B800-4834-B452-9A7A9E5F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458-7951-48A8-BE08-9417778E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CC0-5984-442F-B075-DD39739C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9BB-E1BE-431C-AC88-4D0AFC5F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208-9293-48C2-A656-6E0CEC25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F7E-2C70-4A18-A10E-57BA8F5E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BDF-4091-4EEB-B883-EB84DEC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ECB6-841E-4A4B-94BA-5C4D091D8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1785960"/>
            <a:ext cx="8062920" cy="1714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Quelle prise en charge devant  </a:t>
            </a:r>
            <a:br>
              <a:rPr sz="3200"/>
            </a:b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la découverte d’un carcinome sur KTT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786200"/>
            <a:ext cx="8064720" cy="852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4a1af8"/>
                </a:solidFill>
                <a:latin typeface="Calibri"/>
              </a:rPr>
              <a:t>Service ORL et de Chirurgie cervico-facia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4a1af8"/>
                </a:solidFill>
                <a:latin typeface="Calibri"/>
              </a:rPr>
              <a:t>CHU Mohammed VI-Marrake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32"/>
          <p:cNvGraphicFramePr/>
          <p:nvPr/>
        </p:nvGraphicFramePr>
        <p:xfrm>
          <a:off x="2411280" y="260280"/>
          <a:ext cx="460872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0280"/>
                    <a:ext cx="460872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Problémat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elle attitude chirurgicale vis-à-vis de la glande thyroïd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indication d’un curage ganglionna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elle prise en charge ultérie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29600" cy="633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Prise en  charge ultérie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214280"/>
            <a:ext cx="9144000" cy="24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bat concernant l’indication d’une thyroïdectomie totale complémentaire (tenant compte des données de l’échographie et de la biolog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yroïdectomie totale + exérèse du tractus thyréoglosse et du corps de l’os hyoïde (incision de Koc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0" y="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Observ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3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09564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4" descr="C:\Users\NASSIM\Desktop\bureau\TTToooouuus photos\Photos iPhone\IMG_0959.JPG"/>
          <p:cNvPicPr/>
          <p:nvPr/>
        </p:nvPicPr>
        <p:blipFill>
          <a:blip r:embed="rId2"/>
          <a:stretch/>
        </p:blipFill>
        <p:spPr>
          <a:xfrm>
            <a:off x="4427640" y="3500280"/>
            <a:ext cx="446544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ude histopathologique : microcarcinome papillaire multifocal de la thyroïde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pap3"/>
          <p:cNvPicPr/>
          <p:nvPr/>
        </p:nvPicPr>
        <p:blipFill>
          <a:blip r:embed="rId1"/>
          <a:stretch/>
        </p:blipFill>
        <p:spPr>
          <a:xfrm>
            <a:off x="0" y="2637000"/>
            <a:ext cx="4653000" cy="422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3" descr="IMAG0412"/>
          <p:cNvPicPr/>
          <p:nvPr/>
        </p:nvPicPr>
        <p:blipFill>
          <a:blip r:embed="rId2"/>
          <a:stretch/>
        </p:blipFill>
        <p:spPr>
          <a:xfrm>
            <a:off x="4844880" y="2637000"/>
            <a:ext cx="4299120" cy="422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ZoneTexte 8"/>
          <p:cNvSpPr/>
          <p:nvPr/>
        </p:nvSpPr>
        <p:spPr>
          <a:xfrm>
            <a:off x="0" y="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serv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2843280" y="115920"/>
            <a:ext cx="5834160" cy="581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Prise en  charge ultérie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droit avec flèche 7"/>
          <p:cNvCxnSpPr/>
          <p:nvPr/>
        </p:nvCxnSpPr>
        <p:spPr>
          <a:xfrm>
            <a:off x="5867280" y="3284280"/>
            <a:ext cx="218160" cy="73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Connecteur droit avec flèche 9"/>
          <p:cNvCxnSpPr/>
          <p:nvPr/>
        </p:nvCxnSpPr>
        <p:spPr>
          <a:xfrm>
            <a:off x="7596360" y="3284280"/>
            <a:ext cx="288000" cy="73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ZoneTexte 8"/>
          <p:cNvSpPr/>
          <p:nvPr/>
        </p:nvSpPr>
        <p:spPr>
          <a:xfrm>
            <a:off x="0" y="1628640"/>
            <a:ext cx="982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alayage isotopique corps entier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31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: résidus thyroïdie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rathérapie avec bonne é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Prise en  charge ultérie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chographie cervicale de contrôle:  aspect normal de la thyroï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SHus: 1,76  microU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yroïdectomie totale a était réalis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étude anatomopathlogique: dystrophie thyroïdienne sans signes de malign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dosage du taux de Tg et d’anticorps anti-Tg a été demandé: résultats en c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3"/>
          <p:cNvSpPr/>
          <p:nvPr/>
        </p:nvSpPr>
        <p:spPr>
          <a:xfrm>
            <a:off x="250920" y="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serv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126280" cy="5716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omment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643040"/>
            <a:ext cx="932508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KTT sont des malformations cervicales congénitales, dues à une persistance anormale du canal thyréoglos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prévalence des localisations néoplasiques au niveau du tractus thyréoglosse : 1 à 1,5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vent l'adulte vers la quatrième décen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première description BRENTANO en 19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type papillaire est le plus répandu (83 %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3"/>
          <p:cNvSpPr/>
          <p:nvPr/>
        </p:nvSpPr>
        <p:spPr>
          <a:xfrm>
            <a:off x="642960" y="500040"/>
            <a:ext cx="45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4a1af8"/>
                </a:solidFill>
                <a:uFillTx/>
                <a:latin typeface="Arial"/>
              </a:rPr>
              <a:t>Epidémi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572520" cy="6429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Comment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714320"/>
            <a:ext cx="9144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aucoup d’auteurs pensent que ces carcinomes se développent de novo au sein du KTT, à partir du tissu thyroïdien normal présent dans la paroi du kyste et tout au long du trajet du tractus thyréoglo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’autres croient que le canal thyréoglosse constitue une voie naturelle pour la propagation des carcinomes à partir de la glande thyroï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3"/>
          <p:cNvSpPr/>
          <p:nvPr/>
        </p:nvSpPr>
        <p:spPr>
          <a:xfrm>
            <a:off x="285840" y="10000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Etiopathogé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5857920" cy="5000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Comment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DSTROM exige trois critères histologiques pour le diagnostic d’un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arcinome primaire du K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ège au niveau de la paroi du kyste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érencié des métastases ganglionnaires kystiq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sence d’association d’un carcinome de la thyroïde ou d’un autre org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oneTexte 5"/>
          <p:cNvSpPr/>
          <p:nvPr/>
        </p:nvSpPr>
        <p:spPr>
          <a:xfrm>
            <a:off x="571680" y="12859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4a1af8"/>
                </a:solidFill>
                <a:uFillTx/>
                <a:latin typeface="Arial"/>
              </a:rPr>
              <a:t>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6929280" cy="5716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Comment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928520"/>
            <a:ext cx="914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clinique généralement similaire à un KTT simple </a:t>
            </a: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écouverte le plus souvent fortuite à l’examen anatomopathologique de la pièce opératoi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es cliniques de suspicion de malignit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caractère dur, fixe et/ou irrégulier de la ma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Augmentation rapide de la tail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ADP cervica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3"/>
          <p:cNvSpPr/>
          <p:nvPr/>
        </p:nvSpPr>
        <p:spPr>
          <a:xfrm>
            <a:off x="0" y="107172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Diagno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57480" y="285480"/>
            <a:ext cx="4056120" cy="406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mment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713880"/>
            <a:ext cx="9325080" cy="571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ujet de controverse,  notamment la nécessité d’une TT complémentair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lusieurs  auteurs (Patel, Miccoli) recommandent de compléter le geste chirurgical initial par une T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 fréquence de l’association KTT dégénérés/carcinomes primitifs de la thyroïde (11 à 40%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 garantie d’un meilleure suivi (selon PATEL, seule l’étendue du geste chirurgical initial constitue un variable significatif quant à la survi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T plus indispensable si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envahissement de la paroi du K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ésion nodulaire thyroïdienne ou lorsqu’il y a un doute sur la capacité du patient à adhérer au suivi médical réguli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oneTexte 3"/>
          <p:cNvSpPr/>
          <p:nvPr/>
        </p:nvSpPr>
        <p:spPr>
          <a:xfrm>
            <a:off x="0" y="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Conduite à 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57520" y="0"/>
            <a:ext cx="3786120" cy="542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mment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z les sujets ayant des ADPdécouvertes cliniquement ou à l’échographie, un curage ganglionnaire d’emblée est généralement recommand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cintigraphie du corps entier à l’I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3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dosage de la Tg après thyroïdectomie </a:t>
            </a: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Résidus tumoraux à la scintigraphie imposera une irathérapie à dose ablat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hormonothérapie thyroïdienne à dose freinatrice est toujours indiqué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4"/>
          <p:cNvSpPr/>
          <p:nvPr/>
        </p:nvSpPr>
        <p:spPr>
          <a:xfrm>
            <a:off x="1979640" y="333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Conduite à 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00040" y="192888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me L.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ge: 30 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ceinte de 29 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sence d’ATCD pathologiques particuli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tiente  adressée au service pour PEC, devant la découverte d’un microcarcinome papillaire sur KTT à J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3"/>
          <p:cNvSpPr/>
          <p:nvPr/>
        </p:nvSpPr>
        <p:spPr>
          <a:xfrm>
            <a:off x="1928880" y="285840"/>
            <a:ext cx="5500800" cy="642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Observa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57920" y="0"/>
            <a:ext cx="3286080" cy="6206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mment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D'autres auteurs ne voient pas l’intérêt de la TT si la thyroïde est indemne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- Augmentation de la morbidité (interventions itérativ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- Le bon pronostic de ces carcino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- La possibilité d’un suivi efficace avec ré-intervention en cas de découverte d’un carcinome thyroïdi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3"/>
          <p:cNvSpPr/>
          <p:nvPr/>
        </p:nvSpPr>
        <p:spPr>
          <a:xfrm>
            <a:off x="1692360" y="404640"/>
            <a:ext cx="48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Conduite à 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4475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 u="sng">
                <a:solidFill>
                  <a:srgbClr val="4a1af8"/>
                </a:solidFill>
                <a:uFillTx/>
                <a:latin typeface="Calibri"/>
              </a:rPr>
              <a:t>Conduite à teni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ronostic semble être meilleur que celui de la thyroïde (rareté des métastases à distance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survie à 5 et à 10 ans est estimée respectivement à 100 et à 95,6% selon PATE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3"/>
          <p:cNvSpPr/>
          <p:nvPr/>
        </p:nvSpPr>
        <p:spPr>
          <a:xfrm>
            <a:off x="6000840" y="260280"/>
            <a:ext cx="2892240" cy="459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dégenerescence maligne d’un KTT est 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type papillaire le plus fréqu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agnostic est le plus souvent après exérèse du KTT suite à l’étude anatomopathologique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PEC thérapeutique et la surveillance en l’absence d’une atteinte thyroïdienne, demeurent contrevers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plupart recommandent une TT avec ou sans curage ganglionnaire. Cela doit nous amener à discuter la nécessité d’élaborer un consensus concernant cette pathologie rare afin d’uniformiser nos conduites à ten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14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HD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Tuméfaction cervicale antérieure augmentant progressivement de taille depuis l’enfance,  mesurant 2,5 cm de diamètre à l’échographie, devenant gênante esthétiquement sans signes associ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Un premier acte opératoire avait consisté en une simple  kystectomie dont l’étude anatomopathologique avait conclue à un microcarcinome papillaire intrakysti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145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714240"/>
            <a:ext cx="42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xam physique à l’admis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Bon état géné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Cicatrice cervicale horizontale médiane ad-hyoïdi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Glande thyroïde non palp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absence de signes inflammatoire ni d’A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NASSIM\Desktop\KTT dégénéré photos\IMG_0946.JPG"/>
          <p:cNvPicPr/>
          <p:nvPr/>
        </p:nvPicPr>
        <p:blipFill>
          <a:blip r:embed="rId1"/>
          <a:stretch/>
        </p:blipFill>
        <p:spPr>
          <a:xfrm>
            <a:off x="4643280" y="1197000"/>
            <a:ext cx="3857760" cy="5164200"/>
          </a:xfrm>
          <a:prstGeom prst="rect">
            <a:avLst/>
          </a:prstGeom>
          <a:ln w="0">
            <a:noFill/>
          </a:ln>
        </p:spPr>
      </p:pic>
      <p:cxnSp>
        <p:nvCxnSpPr>
          <p:cNvPr id="52" name="Connecteur droit avec flèche 8"/>
          <p:cNvCxnSpPr/>
          <p:nvPr/>
        </p:nvCxnSpPr>
        <p:spPr>
          <a:xfrm>
            <a:off x="6443280" y="2781360"/>
            <a:ext cx="14472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622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Bilan para-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83628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chographie cervicale avant le premier ac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ésion kystique cervical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lande thyroïde d’aspect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Absence d’ADP cervicales détec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Une deuxième échographie cervica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aniements cicatriciels cervicaux antérie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lande thyroïde de taille normale avec 2 nodules isthmiques hypoéchogène, mesurant 5 et 6 m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sence d’ADP cervic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SH us: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0,91 microU/L(0,25-5 microU/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785600"/>
            <a:ext cx="91440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me M.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ge: 45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rigine: Marrak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TCD pathologiques =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3"/>
          <p:cNvSpPr/>
          <p:nvPr/>
        </p:nvSpPr>
        <p:spPr>
          <a:xfrm>
            <a:off x="1928880" y="357120"/>
            <a:ext cx="5357880" cy="459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serv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764640"/>
            <a:ext cx="91440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Signes fonct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sse cervicale antéro-supérieure, augmentant progressivement de volume depuis 5 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sse  indolore sans signes de compre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Signes physiqu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Bon état géné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Tuméfaction cervicale antérieure médiane, ferme non douloureuse, de 3 cm sur 4 cm, mobile à la protraction de la lang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Absence de signes inflammatoires en regard ni d’ADP cervic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8366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Bilan para-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91592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Echographie cervica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sse ad-hyoïdienne hétérogène avec des zones de kystisation faisant suspecter un KT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glande thyroïde est d’aspect normal  et sans ADP cervic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Prise en char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8920" y="170028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echnique :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strunk avec résection chirurgicale emportant en bloc le kyste avec le corps de l’os hyoï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examen anatomopathologiqu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la pièce de résection :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Carcinome papillaire sur K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1:50:36Z</dcterms:created>
  <dc:creator>NASSIM</dc:creator>
  <dc:description/>
  <dc:language>en-US</dc:language>
  <cp:lastModifiedBy>NASSIM</cp:lastModifiedBy>
  <dcterms:modified xsi:type="dcterms:W3CDTF">2014-02-13T23:15:50Z</dcterms:modified>
  <cp:revision>136</cp:revision>
  <dc:subject/>
  <dc:title>Observation clinique</dc:title>
</cp:coreProperties>
</file>